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C41-858D-463D-A417-BC61D4BC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E26-6444-40A0-BE92-1470360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429-9FE9-4BD8-9709-957BFDC3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BA2-29D1-45E5-96C9-D19B7CD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813-A24D-40AA-BFA8-0A7640CA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159-C943-43C9-8926-CA11D58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EF5-A1AC-4B37-852D-9E72223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168-0EF4-467F-9494-2CF3474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48D-59E5-4931-9D3F-757231C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714-7B1D-4BD9-ABA8-7E01F23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837-76B3-4E99-83FA-2828892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0E4-815E-4485-9CC5-9909C65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F025-262A-4544-B454-B41DE07668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27D-A555-470D-9540-92F02F4E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077320" cy="75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33520" y="1143000"/>
            <a:ext cx="8153280" cy="5029200"/>
          </a:xfrm>
          <a:prstGeom prst="rect">
            <a:avLst/>
          </a:prstGeom>
          <a:noFill/>
          <a:ln w="507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404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richt 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56000" y="26370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richt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 e c h n u n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D4F-2EF2-4448-B6E6-BB8EBB2AA9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A537D-12F3-4F77-BB59-6E69205D41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29440" cy="237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4508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geben Sie aussagefähige Namen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die Berechnungen du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129-6A8E-42EC-AF17-3442E089ACD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F0ECB-B630-4499-AC6F-C72E963F54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119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itenfu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42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gehen Sie bei der Ermittlung und Festlegung der Abstände v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BEC-4586-48F0-A2C2-8B72FC7CE5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E4B53-1A1A-413F-BF30-CB5B925A0F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496040" cy="68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richtsfu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42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Berichtsfuß erfolgt ein Seitenvorsc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A84-E1F3-45AF-8780-BE8D710F800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9C11B-3DDE-4A63-A7C1-846FBB0846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1484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nun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708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Viel Glück!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139-39E4-4ECC-9910-A8BCC52D937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A4FB3-BCFA-4D98-AF9F-44DB6DEC6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1484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nun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08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ommen die Lösung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BA6-1C81-4590-83BC-81381EC387C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9D4B0-3E2F-4772-BC74-26C3D1F0B4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36748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-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-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ell-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ell-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frage q_rechnung Teil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628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2205000"/>
            <a:ext cx="3675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177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365720"/>
            <a:ext cx="3675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86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91A-B1FC-4884-A95D-BEBE804BE7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A7047-D81B-4CC4-8F12-21723D62E9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frage q_rechnung Tei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349360"/>
            <a:ext cx="39589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-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aufs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Auf-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2492280"/>
            <a:ext cx="388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-Be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1916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Rabattstaf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4149720"/>
            <a:ext cx="367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ei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3645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t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501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zum Schluss die Berechnu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amtpreis: [Menge]*[Verkaufsprei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2D5-D6C2-47ED-A77F-31B4782837F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E49C-F6A8-4E72-A27A-CBD71A576D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26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richtsk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1684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5545080" cy="162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350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: Seitenvorschu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D54-FECA-479F-BCF4-E6D577BDD9F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A3976-1440-4B1B-B4AF-AB533B2C89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268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itenk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77528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4F-C2F2-4542-AC8A-801C7E05AFA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7E49D-DC74-4E98-987D-C909BF357D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125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opfbereich  Teil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70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: Gruppenbereich einstel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696000" cy="358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390-C922-498F-A97D-177A1A63C6D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C239-50AC-45CA-B80D-BB28532EF1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4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20500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erend auf der Datenban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eroa_2000.md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 ein Bericht erstellt werden, mit dem für die offenen Aufträge Rechnungen erstell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558-2410-4998-8692-2AB70E8B04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3C618-2BBD-4B62-8AA1-20D026B487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125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opfbereich Tei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5616360" cy="3085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465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: Seitenvorschu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5640" y="5157720"/>
            <a:ext cx="2952720" cy="95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D2E-B4EF-4ECB-B3A6-FBC65A3311C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3FD0F-45D3-43A5-86E3-38BA1A94D5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1268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tail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32720" cy="68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D8A-312D-4B7E-8023-93BB5C28043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6D87-4655-4CDC-84E0-068E3AF1D1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19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 Teil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272360" cy="234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4437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müssen Sie besonders auf die richtige Verwendung der Namen ach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E8B-30E9-4439-83AD-665EB94B994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E00BD-EE91-40F1-B3B6-8D06883F39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19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 Tei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6264000" cy="32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361-E24F-4573-A8BE-CC27F6B46C0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3DF80-1510-46DD-893F-89E03E38BB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125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 Tei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200720" cy="224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532764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E14-760E-43F6-BE26-7888FF6740B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E9B4-4CDD-4150-A605-18654905D3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19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 Tei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967280" cy="214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311280" cy="201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CD6-4BDD-46FE-984E-F3579EF427C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AB9F0-D0FE-495A-8D65-F44A1C4819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19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ßbereich Tei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6480360" cy="406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9BD-1473-46E0-967A-3CE5CB93F0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FB656-A6CD-4067-B64F-A5D16FBD77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1268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itenfu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993080" cy="1363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378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r betrieblichen Praxis bleibt dieser Bereich frei, da in der Regel Formulare bedruck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724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rechend dem gedruckten Fuß ist hier Platz zu reservie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34A-1292-4BCF-8777-B0D221A3440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5C6B5-6E38-4358-8E32-1C2E5C3BDF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1268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richtsfuß  Teil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343640" cy="140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teuerung des Seitenvorschu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6192720" cy="179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397-2174-4394-9596-140EEF26A9A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6FD61-0520-4428-98EA-2DBB1EEF4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268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richtsfuß  Tei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Summe aller Rechnungssummen kann mit den Standardformeln nicht ermittel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997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für müssen Prozeduren programmiert wer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BA unter ACCES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8C1-D9A9-47E5-A852-7A85E98A091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D369D-92D6-409D-B525-E11A2A306B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34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bau der 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848720" cy="25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9C9-8B99-4C92-8C46-151463F365E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B4258-9F5F-44AB-8F55-5E81730689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nun müsste es eigentlich klapp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561672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895-2680-4D28-9250-16AE449C22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59FE2-FB01-4AB3-820E-1BC5619942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71640" y="306864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nd nun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iel Glück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i der Klausu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D88-2F88-453A-BDCB-2D5264B6873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E94C7-1B77-4317-824B-724786311D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erst soll ein Vorblatt ausgedruckt werden mit einem Titeltext, Datum und Uhrzeit sowie Anzahl der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nn folgen die einzelnen Rechn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 Rechnung hat einen Seitenkopf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icht Ihre Aufgabe, vorgedruckt im Pap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erstellen die eigentliche Rech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 Rechnung hat einen Seitenfus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icht Ihre Aufgabe, vorgedruckt im Pap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s letztes Blatt wird ein Schlusskommentar ausgegeb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or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FC5-0572-4EBE-AA24-9C7AE794E7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030E1-2FE6-406A-898F-D18F9A59FA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2420640"/>
            <a:ext cx="777240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alysieren Sie die ausgedruckten Rechn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llen Sie fest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welche Daten benötigt wer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in welchen Tabellen sich die Daten befin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welche Berechnungen durchgeführt werd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llen Sie dann die notwendige Abf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ichern Sie diese als 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q_rechung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48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or Sie daran gehen, den Bericht zu erstelle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ten Sie folgende Tätigkeiten durchfü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B31-F5DF-444A-8AE3-45B0918D83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F597C-2BC0-4691-83F9-5BF20AE354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49604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richtsk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42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dem Berichtskopf erfolgt ein Seitenvorsc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702-0D33-455A-9AD2-25CFD3246A9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852AE-C5FD-4757-A955-A2136211B0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1197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itenk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342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gehen Sie bei der Ermittlung und Festlegung der Abstände v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CC3-1232-4117-B540-AC9E76EE8E5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7CE4-8630-4E67-8814-607FD20E1F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119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opf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36572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chtu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welchem Wert muss hier gruppiert werde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n Sie hier den Seitenvorschu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730-D7B4-4C6A-845C-23F9FC338AD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3440-4097-4451-989A-F6436F02C5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29440" cy="158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tail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7B4-9FE8-4EFA-B50E-3B15061AE16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48F31-3CA8-4BB3-966E-6F448F4CAC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21:29Z</dcterms:created>
  <dc:creator>Röhl</dc:creator>
  <dc:description/>
  <dc:language>en-US</dc:language>
  <cp:lastModifiedBy>Joachim Röhl</cp:lastModifiedBy>
  <dcterms:modified xsi:type="dcterms:W3CDTF">2002-10-23T19:36:50Z</dcterms:modified>
  <cp:revision>24</cp:revision>
  <dc:subject/>
  <dc:title>PowerPoint-Präsentation</dc:title>
</cp:coreProperties>
</file>