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BB7-E95A-4E2B-814D-02614AC6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058-C137-4AFD-988B-6DB49ABD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B83-8272-4500-8B6F-3A6BBAB5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E5C-3E00-4687-9732-E3BBA05E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946-617F-4436-9449-E87CA552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42E-CF4E-4602-B3D7-99960AEB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3D8-4F6A-4E7F-BF97-9669DA04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3E2-703C-413F-A612-6577C54A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CBA-A92E-43A9-B5B0-77250083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84B-3AFA-4C1E-912A-F118AFEB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588-EF18-4E71-A593-CBDD4C70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97D-F449-47F5-96D4-D3099A4B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784A-847F-43E7-BA97-2E3B947D92B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00EA-C5AD-4600-974F-1040A30CD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077320" cy="757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33520" y="1143000"/>
            <a:ext cx="8153280" cy="5029200"/>
          </a:xfrm>
          <a:prstGeom prst="rect">
            <a:avLst/>
          </a:prstGeom>
          <a:noFill/>
          <a:ln w="507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3808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39640" y="333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Kriterien.doc" TargetMode="Externa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Warum_erstellen_wir_Abfragen.doc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Verkn&#252;fungsoperatoren.doc" TargetMode="External"/><Relationship Id="rId2" Type="http://schemas.openxmlformats.org/officeDocument/2006/relationships/hyperlink" Target="file:///Verkn&#252;fungsoperatoren.doc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rstellung_einer_einfachen_Abfrage.doc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Abfragenentwurf.doc" TargetMode="Externa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Berechnungen%20in%20Abfragen.DOC" TargetMode="External"/><Relationship Id="rId2" Type="http://schemas.openxmlformats.org/officeDocument/2006/relationships/hyperlink" Target="file:///Berechnungen%20in%20Abfragen.DOC" TargetMode="External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Datensaetze%20gruppieren.DOC" TargetMode="External"/><Relationship Id="rId2" Type="http://schemas.openxmlformats.org/officeDocument/2006/relationships/hyperlink" Target="file:///Datensaetze%20gruppieren.DOC" TargetMode="External"/><Relationship Id="rId3" Type="http://schemas.openxmlformats.org/officeDocument/2006/relationships/hyperlink" Target="file:///Datensaetze%20gruppieren.DOC" TargetMode="External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file:///auto_klausur.rtf" TargetMode="External"/><Relationship Id="rId2" Type="http://schemas.openxmlformats.org/officeDocument/2006/relationships/hyperlink" Target="file:///auto_klausur.mdb" TargetMode="External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35280" y="31417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Erstellung von Abfra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DEE-6FA8-471E-9BBD-9A1D8B9942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B951B-ED1D-4FF2-B613-3B00568058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11280" y="2276280"/>
            <a:ext cx="31687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er Symbolleis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erste Symbol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blattansicht“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ach werden di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e vertaus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 zur Entwurfsans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4033800" cy="2890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1280" y="1413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n anze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51280" y="1773360"/>
            <a:ext cx="4608360" cy="153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3203640" y="2133720"/>
            <a:ext cx="792000" cy="331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0248-751A-4BE9-A0AE-F1B514A230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33776-4B98-47B9-91E8-73F01FC103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ü „Datei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ichern unter“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eintragen bzw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gegebenen Nam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ä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ä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95640" y="1413000"/>
            <a:ext cx="3889440" cy="2108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1268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elle speich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24360" y="3716280"/>
            <a:ext cx="468000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932-572F-4DF0-8DA5-A4035693C11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3DD9F-DBCF-489B-8A8B-BFA9CB5945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10920" y="1916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neue Abfrage aktiv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bel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_Compu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ld „Bezeichnung“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ld „Preis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268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Übung: q_Abfrag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4824360" cy="427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875-953B-4045-9AF8-6628EF72F0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C1F66-BF97-4254-922E-5A9AFC50A8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640" y="2060640"/>
            <a:ext cx="5545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197000"/>
            <a:ext cx="806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n Zielen dienen Abfra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ach Abfragen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erien verwend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ergleichoperato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erver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nüpfungsoperatoren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DER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SC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wurf vo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fragen über mehre Tabellen hin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chnungen i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sätze grupp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A6A-9EA4-4A5B-8CDB-875DBC0E090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A0E3C-5599-4A40-8F1D-B34E0F94BF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der in die Abfr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trage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erium eintrag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 ans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4392360" cy="3033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1268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Kriterien verwenden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Kriterien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80360" y="4724280"/>
            <a:ext cx="431640" cy="289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492360" y="4005360"/>
            <a:ext cx="5056200" cy="187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8C6-D1AE-45CC-AB34-240B6032001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79C17-BF1A-4436-B229-6C8914641E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35290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öß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iner oder 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ößer oder 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268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gleichoperatoren bei Kriter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2492280"/>
            <a:ext cx="35290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hl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Tex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lenderda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2002-11-05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844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1989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nzeichnung v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477-0716-4A8D-B6AC-F528F73E98D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912CA-23CF-4173-8D55-928B0DAA48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7994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3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sind die Artikelnummer, die Bezeichnung und die Anzahl der Artikel anzugeben, die derzeit nicht am Lager s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4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sind alle Aufträge des Kunden 591 anzuzeig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5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sind alle Aufträge anzuzeigen, die vor dem 17.08.2002 erteilt wu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6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sind Kunden anzuzeigen, die im Ort mit der Postleitzahl 48683 woh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7: Welche Postleitzahl hat Aha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197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hren Sie nun die folgenden Aufgaben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A8B-5F99-4233-92D2-30B7A8E4FA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47F4F-2076-4E5E-AD9F-95F165371C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126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ösungen folgen auf den folgenden Sei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6CF-7AC2-4B3F-9F40-4F3CAB3AB10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74580-E05C-41D4-B9B4-F463F5FB0C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1280" y="1197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3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sind die Artikelnummer, die Bezeichnung und die Anzahl der Artikel anzugeben, die derzeit nicht am Lager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391280" cy="36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D80-B2F1-425A-AD8C-025CEE2FE5E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E11F0-3B1D-4FC6-A1BF-0166BBB23B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197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4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sind alle Aufträge des Kunden 591 anzuzei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6553080" cy="397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5D3-4F3A-4831-9564-EB40AEBE409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8B22E-6EE9-4DA1-AB79-D99CED40AD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71640" y="1125360"/>
            <a:ext cx="5472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n Zielen dienen Abfra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ache Abfragen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erien verwend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ergleichoperato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erver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nüpfungsoperato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D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DER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SC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wurf vo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fragen über mehre Tabellen hin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chnungen i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sätze grupp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E243-65BC-43BF-861C-3AFE6EB02FF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489D98-8B54-44AD-8595-33AB73067B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1197000"/>
            <a:ext cx="79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5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sind alle Aufträge anzuzeigen, die vor dem 17.08.2002 erteilt wurden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5832720" cy="380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689-BC2F-4965-8255-4E4B8859A50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D1212-2971-45C8-9B70-A7A12BFC90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1197000"/>
            <a:ext cx="79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6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sind Kunden anzuzeigen, die im Ort mit der Postleitzahl 48683 woh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19240" y="2190600"/>
            <a:ext cx="5181840" cy="388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BA2-56F9-4F54-B037-AEAD47EC463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EBA41-1C29-4244-B1A3-858E75E4B0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11280" y="1197000"/>
            <a:ext cx="7993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7: Welche Postleitzahl hat Aha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3288960" cy="381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816-B592-4EE5-8CF6-146ED063D5C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4B987-5E8F-4C7B-B07C-2DFE1A0C26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770580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kerzeichen, steht für beliebig viele Ze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kerzeichen, steht genau für ein Ze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kerzeichen, steht genau für eine Zi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..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chenmuster, alle zwischen den Klamme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ehenden Ze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ht, Ausschließung des folgenden Zeich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2682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Mustervergleich bei Texten (wie oder engl. lik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844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666-6BA6-44EF-8C74-ACD02D59343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F7014-420A-457D-ADFB-8224C49F32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7994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8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gen Sie die Kunden an, deren Name1 mit "K" anfän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9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Kunden wohnen im Postleitzahl-Bereich "46"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10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mitteln Sie, welche Festplatten in der Tabelle t_Computer enthalten s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11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welchen Kundenkonditionen ist der Text "10 Tage 2 %" enthalt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1197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hren Sie nun die folgenden Aufgaben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991-6739-4D7A-BE1B-008DCA9E74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5C3C1-96BE-422B-8331-6721FD654C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126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ösungen folgen auf den folgenden Sei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E76-EADA-4C69-B49B-F214715EC18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13D0D-E30C-4134-84DA-47F39EE2C7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1197000"/>
            <a:ext cx="7993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8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gen Sie die Kunden an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en Name1 mi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"K" anfän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27640" y="1268280"/>
            <a:ext cx="4000320" cy="47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651-F2D2-4C86-A05B-567AA37192A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7A76F-B802-4A2C-86FB-B57EA4CCAC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1280" y="1197000"/>
            <a:ext cx="7993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9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Kun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hnen i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stleitzahl-Berei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"46"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4896000" cy="474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C6E-446F-45BA-AAC1-1B1ABA5A1CF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DB776-4A5D-47DD-AD24-ABDC8D7CE0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11280" y="1197000"/>
            <a:ext cx="2592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10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mitteln Sie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Festplat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der Tabell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_Comput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halten s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5327640" cy="428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494-1A2E-4045-B5DD-6EFA602829DB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B8202-1E1A-4C98-9FBC-DF1B69B5EA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1280" y="1197000"/>
            <a:ext cx="2881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11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welchen Kundenkonditionen ist der Tex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"10 Tage 2 %" ent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5327640" cy="42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45E-857C-4470-9C16-704DB5D4DDB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7407E-7494-41CC-8DD6-0C3A2D7CAD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der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sätze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sätze sort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ellen verbinden (verknüpf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chnungen durchfüh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basis für Formulare / Berichte erzeu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 in Tabell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ände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ö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bfragen dienen folgenden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Zielen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arum_erstellen_wir_Abfragen.d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862-6E3E-4841-90A0-F6D55AC831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A4FEE-DC37-4131-BE07-50E1C59366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71640" y="2924280"/>
            <a:ext cx="5472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052640"/>
            <a:ext cx="77724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n Zielen dienen Abfra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ach Abfragen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erien verwend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ergleichoperato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erver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nüpfungsoperatoren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DER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SC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wurf vo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fragen über mehre Tabellen hin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chnungen i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sätze grupp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5CA-3187-449C-B4ED-D9B2B5BABAC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11371-E4D7-4863-AD72-D60A8FD7D5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1268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rknüpfungsoperatoren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Verknüpfungsoperatoren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17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-Verknüp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4922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UND-Verknüpfung wird benötigt, wenn in einer Abfrage zwei Vergleiche durchgeführt wer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de Kriterien zutreffen mü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91F-7217-4365-8269-91F1F4080B3A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2405D-3EC7-423D-AEB4-8AE77B0404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3816360" cy="2850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1280" y="1197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-Verknüp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7002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ei Kriterien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ei Feld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7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ei Kriterien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m 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00720" y="2637000"/>
            <a:ext cx="3816360" cy="282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C8B3-2487-4F4A-AF75-936718249236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6AB27-26FC-4C01-8107-E81D33A200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11280" y="1197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-Verknüp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1700280"/>
            <a:ext cx="53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gabe an die Datenban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ge alle Sätze an, bei denen die Anzah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ößer ist als nu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einer ist als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463840" cy="2519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9640" y="4005360"/>
            <a:ext cx="7704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ah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1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z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DD2-57AE-4918-887D-0D403BAE833C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4720C-922F-42FD-9957-BBCBE383A6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2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2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2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2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1197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DER-Verknüp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700280"/>
            <a:ext cx="61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ODER-Verknüpfung wird benötigt, wenn in einer Abfrage zwei Vergleiche durchgeführt werden 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genügt, wen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r der beiden Kriterien zutrif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E80-1DDD-417B-8C47-FD96EC767FE3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9BD54-F751-460C-9DB2-A9C8AF5BDB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11280" y="1197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DER-Verknüp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1628640"/>
            <a:ext cx="52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gabe an die Datenbank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ige alle Sätze an, bei denen die Anzah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ich  null i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ößer ist als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365720"/>
            <a:ext cx="7704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ah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1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z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ei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56360" y="1197000"/>
            <a:ext cx="2090880" cy="295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357336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rmittlung von Extremwer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B83-7198-4041-B2EC-3294AFB25768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10EC5-CAE4-4FF3-B4A7-4714742681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0920" y="1484280"/>
            <a:ext cx="7778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ufgabe 12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eigen Sie die Kunden an, die in Ahaus (PLZ 48683) bzw. Coesfeld                       (PLZ 48653) woh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ufgabe 13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che Artikel liegen im Preisbereich von einschließlich 100 bi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schließlich 1000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ufgabe 14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che Artikel hat der Kunde 591 am 16.09.2002 bestel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ufgabe 15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che Artikel liegen im Preisbereich von einschließlich 100 bi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schließlich 1000  und sind derzeit nicht am Lag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ufgabe 16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rmitteln Sie die Kunden, die im Namen1 oder im Namen2 mit "K" beginn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1052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hren Sie nun folgende Aufgaben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B7D-B00F-4F5C-B7E6-65489604C0D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F5DB1-BE2F-4AB8-BD45-BCA3D0EDF5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2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126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ösungen folgen auf den folgenden Sei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33A-575F-40D9-A0F8-2DD4F8339E8A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72EF3-0486-41AD-BC7F-0ADF4DC427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1197000"/>
            <a:ext cx="3384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ufgabe 12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gen Sie die Kunden an, die in Ahaus (PLZ 48683) bzw. Coesfel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PLZ 48653) woh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51280" y="1484280"/>
            <a:ext cx="447192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A576-5B7C-40E6-92DD-B9DD205EFE11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BE1D6-E7C4-40B1-A331-519D7165A9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1197000"/>
            <a:ext cx="30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ufgabe 13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Artikel lieg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m Preisbereich von einschließlich 100 bi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schließlich 1000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492360" y="1197000"/>
            <a:ext cx="5183280" cy="448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89F-6EB4-4605-B2BB-B72A2FECDB0E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1C026-C6E4-483A-8D7A-E331DF0917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1640" y="1413000"/>
            <a:ext cx="5472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052640"/>
            <a:ext cx="77724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n Zielen dienen Abfra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ache Abfragen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erien verwend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ergleichoperato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erver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nüpfungsoperatoren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DER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SC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wurf vo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fragen über mehre Tabellen hin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chnungen i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sätze grupp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5CE-350D-406C-AE7A-B4B6441A37F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726CE-CD11-4E88-8C2B-4393CBF352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197000"/>
            <a:ext cx="27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ufgabe 14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Artikel ha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Kunde 591 am 16.09.2002 bestell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5256360" cy="407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E51-4DBB-427D-A76D-681EBF07EFDD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53A65-69C9-41FC-AB6F-E783759E8E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1197000"/>
            <a:ext cx="273708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ufgabe 15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Artikel liegen im Preisbereich von einschließlich 100 bi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schließlich 1000  und sind derzeit nicht am La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5616360" cy="378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66E-500D-4E4D-9981-1265A474AF07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3DD36-8A3A-4B08-BA6E-7143DEFFD7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1052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ufgabe 16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mitteln Sie die Kunden, die im Namen1 oder im Namen2 mit "K" beginn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285588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V="1">
            <a:off x="826920" y="2492280"/>
            <a:ext cx="2449800" cy="338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826920" y="2420640"/>
            <a:ext cx="2592720" cy="352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9500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N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508720" y="2349360"/>
            <a:ext cx="2666880" cy="367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940360" y="6021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D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DA9-14FC-497A-9705-82E85A479D5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CEFCC-C958-4746-A562-132CCFEC94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39640" y="1197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w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1628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dem Schlüsselwort „zwischen“ (engl. between) können abgegrenzte Bereiche abgefragt werden, für die sonst zwei Vergleichsoperatoren verwend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2924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Werte, die als Grenze dienen, werden in die Auswahl einbezo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3933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ulierung mi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sc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rgleichoperato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wischen 100 und 1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= 100 und &lt;=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832-C310-49D3-8047-C897C96531DA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AC9EC-E86C-4F78-871A-AF15BB2D9A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11280" y="1773360"/>
            <a:ext cx="77785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ufgabe 17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Orte liegen im PLZ-Bereich vo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schließlich 48599 bi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schließlich 48683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052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hren Sie nun folgende Aufgabe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BE8-F559-443C-97C7-B01FCECF5B1B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0966F-7429-4AA9-BB48-CF858D9674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11280" y="126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ösung folgt auf der folgenden Se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77B-08FE-4420-8AC1-E6351B4D7CA6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6A9CB-1EB7-45D8-ADAB-15BE2FC0EA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9640" y="1197000"/>
            <a:ext cx="30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ufgabe 17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 Orte liegen im PLZ-Bereich vo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schließlich 48599 bi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schließlich 4868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24360" y="1413000"/>
            <a:ext cx="4608360" cy="340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DD2-2830-4BDB-AC66-FBE3928934C5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E42AA-011B-4E4B-AAB4-B3364D14BB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1197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1628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dem Schlüsselwort „in“können Auflistungen abgefragt werden, für die sonst zwei oder mehr ODER-Abfragen verwend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2924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angegebenen Werte werden in die Auswahl einbezo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3789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Werte sind in Klammern eingeschlossen und durch Semikolon voneinander separiert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„WertA“,“WertB“,“WertC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942-C0BB-491E-8F6B-A334ED561F24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C6BFB-2031-49CC-A03E-71F86FEACC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1280" y="1773360"/>
            <a:ext cx="77785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llen Sie fest, wie viel Exemplare der Software „WIN ME“ und „WIN XP“ am Lager s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1052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hren Sie nun folgende Aufgabe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2E0-C0D0-43F4-8022-8BD0F5EBAFFB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42D37-D0C6-457D-B3BA-6D4BEF5B40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126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ösung folgt auf der folgenden Se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8FA-8B59-4C15-B680-635261AA0B24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57C80-ECFE-455D-909C-F4B7929600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38098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gruppe „Abfragen“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“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 Dialogfeld „Entwurfsansicht“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äti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413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infache Abfragen erstellen: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rstellen_einer_einfachen_Abfrage.d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76720" y="2924280"/>
            <a:ext cx="4960800" cy="310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285-DEE8-466F-82FC-CFA531EF76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CBCAB-4DCC-4E5B-A387-5D9B54CBC1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9640" y="1197000"/>
            <a:ext cx="77788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llen Sie fest, wie viel Exemplare der Software „WIN ME“ und „WIN XP“ am Lager s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537080" cy="404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81B-7AB1-4802-ABB4-66B6AD0498C7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A443F-137B-4C9D-9A2C-5002A3FDA2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71640" y="3789360"/>
            <a:ext cx="5472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125360"/>
            <a:ext cx="77724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n Zielen dienen Abfra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ach Abfragen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erien verwend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ergleichoperato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erver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nüpfungsoperatoren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DER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SC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wurf vo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fragen über mehre Tabellen hin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chnungen i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sätze grupp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BED-AE21-4EFB-9212-1E257B6F7714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70078-9F53-43EA-8D27-8C5F211240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 Tabellen werden gebrauc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 Tabellen müssen über welche Felder miteinander verknüpf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 Datenfelder sollen angezeig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l sortiert werden? Wenn ja, nach welchem Feld in welcher Reihenfol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len nur bestimmte Datensätze ausgewählt werden? Wenn ja, nach welchem Kriteri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len bestimmte Funktionen verwendet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112536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ntwurf von Abfragen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bfragenentwurf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280" y="1844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gende Fragen müssen Sie sich (bei nahezu jeder) Abfrage stell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BDDB-8838-401B-99DD-D3C48FF8F53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02D2B-A7F1-4C0B-835E-27FB139019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2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2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1280" y="1341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nun folgenden Abfragen sind zuvor entsprechend dem folgenden Muster zu entwerfen und anschließend am Rechner zu überprüf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55640" y="2492280"/>
          <a:ext cx="7561080" cy="3529080"/>
        </p:xfrm>
        <a:graphic>
          <a:graphicData uri="http://schemas.openxmlformats.org/drawingml/2006/table">
            <a:tbl>
              <a:tblPr/>
              <a:tblGrid>
                <a:gridCol w="1191240"/>
                <a:gridCol w="636984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2050920" y="263700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belle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314172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nüpf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371628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ld(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9264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486900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er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79640" y="551664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nktion(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285-3EF7-4C43-83C5-F8171CB404A4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B2E04-3C1A-42A9-AEC6-13D6EAF534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00000" y="4221000"/>
            <a:ext cx="5472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125360"/>
            <a:ext cx="77724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n Zielen dienen Abfra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ach Abfragen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erien verwend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ergleichoperato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erver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nüpfungsoperatoren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DER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SC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wurf vo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fragen über mehre Tabellen hin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chnungen i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sätze grupp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9C8-B19C-4F4D-89AC-CE068C64618D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2FECF-85AD-42E7-B3B1-88775D1D5E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112536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fragen über mehrere Tabellen hin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1557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vielen Fällen ist es notwendig, in einer Abfrage Felder aus mehreren Tabellen zu verwende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zu sind die entsprechenden Tabellen auszuwäh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2781360"/>
            <a:ext cx="237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lte es notwendig sein, nachträglich eine Tabelle einzubinden, rufen Sie folgendes Menü au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5040360" cy="252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B90-DF79-48D6-9413-5CF72E86160A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61F48-60BB-4A12-86DC-802674A442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4360" y="1484280"/>
            <a:ext cx="295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urden im Menü „Extras Beziehungen“ die Verbindungen zwischen den Tabellen hergestellt, so werden diese auch im Abfrageentwurf angezeig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51280" y="2230560"/>
            <a:ext cx="4249800" cy="3744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84720" y="1916280"/>
            <a:ext cx="0" cy="20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03640" y="141300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nüpf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F93-5F0D-4823-9869-2EC4D0661E00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C726E-B0A3-444D-9765-3053EE3416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11280" y="1197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werden nur die Tupel angezeigt, bei denen die PLZ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sowohl in der linken Tabel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als auch in der rechten Tabel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halten s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3357720"/>
            <a:ext cx="216216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3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6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3357720"/>
            <a:ext cx="216216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32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86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gend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3357720"/>
            <a:ext cx="216216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sf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leibt l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leibt le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440" y="2709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_Kunden.PL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708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_Orte.PL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51640" y="2708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zeige 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486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ndsätzlich erfolgt die Anzeige entsprechend de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D-Vergle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079-F9AB-4243-B170-A043ADF14462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D77E5-E844-42C1-B572-4C71BD21E8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2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2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2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11280" y="1197000"/>
            <a:ext cx="288108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mäßig sind die Tabellennamen im QBE-Bereich sichtb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llten diese nicht angezeigt werden, so können diese folgendermaßen eingeblendet wer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4505400" cy="475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571-871E-43FE-BE05-6082A24BFA58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4A875-9185-4D9B-B2C6-89050CD41D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42920" y="4653000"/>
            <a:ext cx="54723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1197000"/>
            <a:ext cx="77724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n Zielen dienen Abfra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ach Abfragen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erien verwend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ergleichoperato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erver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nüpfungsoperatoren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DER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SC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wurf vo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fragen über mehre Tabellen hin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chnungen i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sätze grupp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7BD-AA6F-4D82-8D4E-D933B1836614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0181D-ECFE-495B-9C87-37AD6C4DE6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38098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belle „t_Kunden“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nzufügen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ließen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13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elle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5648400" cy="252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0D1-DC65-48C1-BAD4-C430BDB89C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2085E-CA63-4BB9-8A2E-D2FC4A57DF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9640" y="112536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rechnungen in Abfragen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Berechnungen in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bfragen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162864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äufig müssen in Abfragen Berechnungen durchgeführt werde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spiel: Berechnung des Gesamtpreises a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zahl der Artike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zier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 dem P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916360" y="2852640"/>
            <a:ext cx="5472000" cy="26942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995640" y="5661000"/>
            <a:ext cx="3527640" cy="4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A05-8D13-45B9-8D1C-30574D3E6BDB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16F8F-AB35-4345-95F1-E333756BB6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0" dur="indefinite" restart="never" nodeType="tmRoot">
          <p:childTnLst>
            <p:seq>
              <p:cTn id="1591" dur="indefinite" nodeType="mainSeq">
                <p:childTnLst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1280" y="1773360"/>
            <a:ext cx="7921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ndern Sie in der Tabelle die Anzahl der bestellten Artikel bei einigen Bestellungen auf 2 oder 3 a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tellen Sie einen Abfrageentwurf für die folgende Abf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19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soll eine Abfrage erstellt werden, aus der Sie die Artikel-Nummer, die Bezeichnung, die Anzahl, den Einzelpreis und den Gesamtpreis der bestellten Artikel ersehen kö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hren Sie nun folgende Aufgabe du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4B8-613B-4EFD-9C74-5B39BE5BBA99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6C939-F1D4-4E33-828E-9E77D3B1A5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11280" y="126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ösung folgt auf der folgenden Se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3175-417F-44C0-B4E0-2D8812B64D75}" type="slidenum">
              <a:t>6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8682B-14F5-42E3-897C-14B6CD4355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0" dur="indefinite" restart="never" nodeType="tmRoot">
          <p:childTnLst>
            <p:seq>
              <p:cTn id="1641" dur="indefinite" nodeType="mainSeq">
                <p:childTnLst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755640" y="1844640"/>
          <a:ext cx="7561440" cy="3549600"/>
        </p:xfrm>
        <a:graphic>
          <a:graphicData uri="http://schemas.openxmlformats.org/drawingml/2006/table">
            <a:tbl>
              <a:tblPr/>
              <a:tblGrid>
                <a:gridCol w="1190520"/>
                <a:gridCol w="637092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.Art-Nr = t_Computer.Art_N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_Nr, Bezeichnung, t_Autrag.Anzahl, Preis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amtpreis: Preis* t_Autrag.Anzah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04800" y="126828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stellen Sie einen Abfrageentwurf für die Abf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227280" y="3429000"/>
            <a:ext cx="2016360" cy="7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3844800"/>
            <a:ext cx="6193080" cy="19227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tung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Feld Anzahl ist in zwei Tabellen vorhanden. Daher muss genau angegeben werden, aus welcher Tabelle dieses Feld genommen werden s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D7B-C758-4121-B6E9-24C5B68E132C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0ECDE-86B0-4D55-AB7A-C0FAFF0330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9640" y="1125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19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 soll eine Abfrage erstellt werden, aus der Sie die Artikel-Nummer, die Bezeichnung, die Anzahl, den Einzelpreis und den Gesamtpreis der bestellten Artikel ersehen könn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7848720" cy="264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9D4-C65E-403B-9D3D-A7B0E0FC8A51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0FF89-75C7-417A-928C-5E084FF1CF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11280" y="1773360"/>
            <a:ext cx="79214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tellen Sie auch hier zuerst einen Abfrageentwur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20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der Abfrage sollen auch jeweils der Rabattbetrag, der der Skontobetrag sowie der sich ergebenden Endpreis angezeigt werden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Aufgabenstellung soll nun erweitert werd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93E-0339-4AB7-9A6B-EDEFEDC6D70F}" type="slidenum">
              <a:t>6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5450F-4B40-43BB-8D4D-1B0E2E1392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2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1280" y="126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ösung folgt auf der folgenden Se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4A3-BE87-44B3-B4B1-D888DEECD2D5}" type="slidenum">
              <a:t>6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3FEEC-5A35-49E3-9672-F6E727900E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7" dur="indefinite" restart="never" nodeType="tmRoot">
          <p:childTnLst>
            <p:seq>
              <p:cTn id="1708" dur="indefinite" nodeType="mainSeq">
                <p:childTnLst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4800" y="119700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stellen Sie einen Abfrageentwurf für die Abf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55640" y="1700280"/>
          <a:ext cx="7561440" cy="4389480"/>
        </p:xfrm>
        <a:graphic>
          <a:graphicData uri="http://schemas.openxmlformats.org/drawingml/2006/table">
            <a:tbl>
              <a:tblPr/>
              <a:tblGrid>
                <a:gridCol w="503280"/>
                <a:gridCol w="705816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Computer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Kunde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KD_Kon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.Art-Nr = t_Computer.Art_Nr und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.Kd_Nr = t_Kunden.Kd_Nr und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Kunden.Kd_Art = t_KD_Kondi.Kd_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_Nr, Bezeichnung, t_Autrag.Anzahl, Preis,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amtpreis: Preis* t_Autrag.Anzahl,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battbetrag:Gesamtpreis*Rabatt,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ontobetrag:(Gesamtpreis-Rabattbetrag)*Skonto,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dpreis:Gesamtpreis-Rabattbetrag-Skontobet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236-2837-4839-9DA8-6DCD32DFF772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01A4E-892D-4702-8738-F772A36DA0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11280" y="119700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Q_Abfrage 19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s soll eine Abfrage erstellt werden, aus der Sie die Artikel-Nummer, die Bezeichnung, die Anzahl, den Einzelpreis und den Gesamtpreis der bestellten Artikel ersehen können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rgebnis in der Datenblattansich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7993080" cy="375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F14-CC67-4215-8EF0-D65B78882049}" type="slidenum">
              <a:t>6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9D634-D1B7-4684-B627-2D7EFF9413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9640" y="1052640"/>
            <a:ext cx="7848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Q_Abfrage 19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 der Abfrage sollen auch jeweils der Rabattbetrag, der der Skontobetrag sowie der sich ergebenden Endpreis angezeigt werden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559640" cy="2890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1280" y="5084640"/>
            <a:ext cx="3456000" cy="349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4360" y="5445000"/>
            <a:ext cx="4464000" cy="3603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684360" y="5805360"/>
            <a:ext cx="4608360" cy="28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F8F-9DFC-48C0-8F00-3B665C41D0BB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06C63-0A05-4BAE-A452-0A73B265CB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2" dur="indefinite" restart="never" nodeType="tmRoot">
          <p:childTnLst>
            <p:seq>
              <p:cTn id="1743" dur="indefinite" nodeType="mainSeq">
                <p:childTnLst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2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05280" y="1413000"/>
            <a:ext cx="2743200" cy="403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372360" y="1484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003640" y="1773360"/>
            <a:ext cx="144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220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076360" y="2204640"/>
            <a:ext cx="136692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003640" y="2492280"/>
            <a:ext cx="144000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003640" y="2637000"/>
            <a:ext cx="144000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4221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BE-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341360"/>
            <a:ext cx="259236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ünschte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l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D-Nr mark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gedrückter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nker Maustas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den QBE-Bereich zi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ustaste los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87640" y="1413000"/>
            <a:ext cx="2801880" cy="42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874-3802-42DE-B06C-085B48243B0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ECEA5-F49A-484E-9FBF-A673399442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16000" y="5013360"/>
            <a:ext cx="5472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1197000"/>
            <a:ext cx="77724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n Zielen dienen Abfra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ach Abfragen e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iterien verwend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ergleichoperato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ervergl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nüpfungsoperatoren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D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DER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WISC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wurf vo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fragen über mehre Tabellen hinw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echnungen in Abf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nsätze grupp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19B-E41F-4434-A4AD-1CE599895553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726F2-C3AB-4B21-BD3C-1A1618B2E6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908000" y="4581360"/>
            <a:ext cx="2521080" cy="459720"/>
          </a:xfrm>
          <a:prstGeom prst="rect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268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tensätze gruppiere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atensaetze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gruppieren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1842480"/>
            <a:ext cx="77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vielen Fällen ist es notwendig, Informationen nicht für einzelne Datensätze, sondern für eine Gruppe von Datensätzen zu ermitteln. Eine solche Gruppe hat ein gemeinsames Merkmal wie beispielswe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8920" y="3500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e Kundennumm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414972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eine solche Gruppe von Datensätzen kann dann mit so genannten Aggregatfunktionen zugegriffen we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2288-E3BA-4BC7-8C8E-B1C8AF7877F1}" type="slidenum">
              <a:t>7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A4D2B-50C1-46C6-ACEE-59039806BF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2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11280" y="1052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gregatfunk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39640" y="1484280"/>
          <a:ext cx="7921440" cy="4475160"/>
        </p:xfrm>
        <a:graphic>
          <a:graphicData uri="http://schemas.openxmlformats.org/drawingml/2006/table">
            <a:tbl>
              <a:tblPr/>
              <a:tblGrid>
                <a:gridCol w="1439640"/>
                <a:gridCol w="5042160"/>
                <a:gridCol w="1439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eut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uppier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ent zur Festlegung des Gruppenfel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OUP 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mittelt die Summe aller Werte in einer bestimmten Spalte. Anwendbar auf Spalten vom Typ Zahl, Währung, D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(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ttelw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chschnittswert aller Werte einer Spal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G(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zeige des kleinsten Wertes einer Spal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(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zeige des größten Wertes einer Spal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(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Ab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mittlung der Standardabweichung (Unterschied gegenüber dem Mittelwe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EV(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drat der Standardabweic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(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sterw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mittelt den Wert des ersten Datensat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(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zterw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mittelt den Wert des letzten Datensat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T(.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8E8-BF63-47FC-A494-1CDCBCDAA9E5}" type="slidenum">
              <a:t>7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77120-5A94-4D6C-9903-2C81E66A34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04080" y="1197000"/>
            <a:ext cx="664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ten Sie darauf, dass im Entwurfsfenster die Zeile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unk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htbar 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5329440" cy="42400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124000" y="1916280"/>
            <a:ext cx="1079640" cy="3744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3FB-437B-413E-8FE8-AA05330C7175}" type="slidenum">
              <a:t>7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E45AD-A9E4-4933-86A3-24A4C7D811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11280" y="119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ühren Sie nun folgende Aufgaben dur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stellen Sie jeweils zuerst den Entwurf. Anschließend überprüfen Sie Ihre Konzeption am Rechner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978-A9BD-4054-9A91-802A439494FB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E2E3C-7802-46B1-8CF0-3343985EDB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1" dur="indefinite" restart="never" nodeType="tmRoot">
          <p:childTnLst>
            <p:seq>
              <p:cTn id="1852" dur="indefinite" nodeType="mainSeq">
                <p:childTnLst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7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8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8360" y="1125360"/>
            <a:ext cx="77724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bfrage 21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chen Wert hat der aktuelle Lagerbestan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bfrage 22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ie viel Artikel sind insgesamt, mindestens, durchschnittlich, maximal am Lag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bfrage 23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chen Wert haben die aktuellen Aufträg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bfrage 24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elche Kunden haben derzeit eine offene Bestellu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bfrage 25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ie viel Positionen haben die Kunden jeweils bestell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bfrage 26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ie hoch ist der Auftragswert je Ku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q_Abfrage 27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ie viele Kunden wohnen in den einzelnen Ort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9F7-9C84-4F69-8380-0373D0061664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CB61F-11A3-4DF2-9575-AF29FB9781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9" dur="indefinite" restart="never" nodeType="tmRoot">
          <p:childTnLst>
            <p:seq>
              <p:cTn id="1860" dur="indefinite" nodeType="mainSeq">
                <p:childTnLst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11280" y="126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Lösungen folgen auf den folgenden Sei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B28-23C1-414A-AA53-5B4AC5D5D9B9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69505-5182-4857-B32B-8388CA1DF8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11280" y="12682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21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lchen Wert hat der aktuelle Lagerbest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84360" y="2421000"/>
          <a:ext cx="4248000" cy="2808000"/>
        </p:xfrm>
        <a:graphic>
          <a:graphicData uri="http://schemas.openxmlformats.org/drawingml/2006/table">
            <a:tbl>
              <a:tblPr/>
              <a:tblGrid>
                <a:gridCol w="519120"/>
                <a:gridCol w="372888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rt:Preis*Anzah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3F0-752F-4E9B-84DE-366F10A16A10}" type="slidenum">
              <a:t>7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D57CD-28E5-4C85-B95E-BAEB4A5C4E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1" dur="indefinite" restart="never" nodeType="tmRoot">
          <p:childTnLst>
            <p:seq>
              <p:cTn id="1912" dur="indefinite" nodeType="mainSeq">
                <p:childTnLst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11280" y="1125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29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BE-Entwu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2664000" cy="865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995640" y="1700280"/>
            <a:ext cx="3664080" cy="439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997-86D7-4066-90E4-BA54D48FDB4C}" type="slidenum">
              <a:t>7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77E19-B3D4-4027-B8BB-BA4B7559A1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11280" y="1268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22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e viel Artikel sind insgesamt, mindestens, durchschnittlich, maximal am La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84360" y="2492280"/>
          <a:ext cx="7200720" cy="3124440"/>
        </p:xfrm>
        <a:graphic>
          <a:graphicData uri="http://schemas.openxmlformats.org/drawingml/2006/table">
            <a:tbl>
              <a:tblPr/>
              <a:tblGrid>
                <a:gridCol w="519120"/>
                <a:gridCol w="6681600"/>
              </a:tblGrid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gesamt: Anzahl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stens: Anzahl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chschnittlich: Anzah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imal: Anzah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e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ttelwert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272-B32B-441F-9916-8E2840495517}" type="slidenum">
              <a:t>7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8B533-9E89-413C-9863-C4E0DC5AA3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8" dur="indefinite" restart="never" nodeType="tmRoot">
          <p:childTnLst>
            <p:seq>
              <p:cTn id="1949" dur="indefinite" nodeType="mainSeq">
                <p:childTnLst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38098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ld im QBE-Bereich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die Zeil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Sortierung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i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rtierfol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elle sort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95640" y="2133720"/>
            <a:ext cx="4321440" cy="269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7A8-9A02-400D-849D-FA189218F6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941AA-1247-46D7-8FB6-ADA01CBD1F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7704000" cy="3056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7848360" cy="7873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1280" y="1125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1280" y="2492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BE-Entwu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587-B11E-4E7A-8BBD-FDB500C97F6A}" type="slidenum">
              <a:t>8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D11F1-F5FD-4846-A7A9-3DC9781076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11280" y="12682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23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elchen Wert haben die aktuellen Aufträg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84360" y="2421000"/>
          <a:ext cx="7272360" cy="2808360"/>
        </p:xfrm>
        <a:graphic>
          <a:graphicData uri="http://schemas.openxmlformats.org/drawingml/2006/table">
            <a:tbl>
              <a:tblPr/>
              <a:tblGrid>
                <a:gridCol w="888840"/>
                <a:gridCol w="638352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,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Comp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.Art_Nr = t_Computer.Art_N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ellwert:t_Auftrag.Anzahl*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01D-CC32-4695-AB76-E1B48A896EA5}" type="slidenum">
              <a:t>8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5A2D2-DE47-4BCA-8352-8206FB726D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5" dur="indefinite" restart="never" nodeType="tmRoot">
          <p:childTnLst>
            <p:seq>
              <p:cTn id="1986" dur="indefinite" nodeType="mainSeq">
                <p:childTnLst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11280" y="1125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234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BE-Entwu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348000" y="1197000"/>
            <a:ext cx="2448000" cy="801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4824360" cy="357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2C1-A89B-4677-8465-AFE92F581883}" type="slidenum">
              <a:t>8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27613-75FB-4315-8715-FE8124E3D5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8" dur="indefinite" restart="never" nodeType="tmRoot">
          <p:childTnLst>
            <p:seq>
              <p:cTn id="1999" dur="indefinite" nodeType="mainSeq">
                <p:childTnLst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11280" y="1268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24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elche Kunden haben derzeit eine offene Bestellu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4360" y="2205000"/>
          <a:ext cx="7200720" cy="2590920"/>
        </p:xfrm>
        <a:graphic>
          <a:graphicData uri="http://schemas.openxmlformats.org/drawingml/2006/table">
            <a:tbl>
              <a:tblPr/>
              <a:tblGrid>
                <a:gridCol w="519120"/>
                <a:gridCol w="668160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,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Kun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.Kd_NR = t_Kunden.Kd_N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d_Nr,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1,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pierung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pierung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pierung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FE10-ABF0-4905-B877-2A8948818EE9}" type="slidenum">
              <a:t>8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8BCE8-2B77-49DB-AEDF-596280E17C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2" dur="indefinite" restart="never" nodeType="tmRoot">
          <p:childTnLst>
            <p:seq>
              <p:cTn id="2023" dur="indefinite" nodeType="mainSeq">
                <p:childTnLst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11280" y="1125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2565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BE-Entwu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751280" cy="1184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700360" y="2593800"/>
            <a:ext cx="5616720" cy="33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A7D-56B7-4798-BF97-283143129CE3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38878-0387-476E-AC77-330CA0D9B9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11280" y="1268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25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e viel Positionen haben die Kunden jeweils bestell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05000"/>
          <a:ext cx="7200720" cy="2590920"/>
        </p:xfrm>
        <a:graphic>
          <a:graphicData uri="http://schemas.openxmlformats.org/drawingml/2006/table">
            <a:tbl>
              <a:tblPr/>
              <a:tblGrid>
                <a:gridCol w="519120"/>
                <a:gridCol w="668160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d_Nr,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zahl:Kd_N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pierung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zah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E7E-7844-419D-9AE3-E2451E832746}" type="slidenum">
              <a:t>8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A90E7-3499-4E6B-869E-E138CDA374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9" dur="indefinite" restart="never" nodeType="tmRoot">
          <p:childTnLst>
            <p:seq>
              <p:cTn id="2060" dur="indefinite" nodeType="mainSeq">
                <p:childTnLst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11280" y="1125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2565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BE-Entwu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673440" cy="12826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916360" y="2781360"/>
            <a:ext cx="3527280" cy="323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4D6-8F0C-40C4-BA81-4B9F51E8A65F}" type="slidenum">
              <a:t>8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FA0C3-1BE2-4A75-8F5A-0563174892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9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11280" y="1268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26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e hoch ist der Auftragswert je Ku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84360" y="2205000"/>
          <a:ext cx="7704000" cy="2789280"/>
        </p:xfrm>
        <a:graphic>
          <a:graphicData uri="http://schemas.openxmlformats.org/drawingml/2006/table">
            <a:tbl>
              <a:tblPr/>
              <a:tblGrid>
                <a:gridCol w="555480"/>
                <a:gridCol w="714852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Computer,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,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Kun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Compute.Art_Nr = t_Auftrag.Art_Nr und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.Kd_Nr = t_Kunden.Kd_N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Auftrag.Kd_Nr,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rt:t_Aufttrag.Anzahl*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pierung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268-E539-4C77-B258-59CB6D66E3A5}" type="slidenum">
              <a:t>8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FEE6F-2F65-414D-B39A-4A65CEC720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6" dur="indefinite" restart="never" nodeType="tmRoot">
          <p:childTnLst>
            <p:seq>
              <p:cTn id="2097" dur="indefinite" nodeType="mainSeq">
                <p:childTnLst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11280" y="1125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2565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BE-Entwu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816360" cy="13035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5329080" cy="3313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8BD-1000-4BF7-86FC-050320064773}" type="slidenum">
              <a:t>8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778A7-14DC-4D16-A603-241972E3E1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9" dur="indefinite" restart="never" nodeType="tmRoot">
          <p:childTnLst>
            <p:seq>
              <p:cTn id="2110" dur="indefinite" nodeType="mainSeq">
                <p:childTnLst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11280" y="1268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_Abfrage 27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e viele Kunden wohnen in den einzelnen Or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84360" y="2205000"/>
          <a:ext cx="7704000" cy="2590920"/>
        </p:xfrm>
        <a:graphic>
          <a:graphicData uri="http://schemas.openxmlformats.org/drawingml/2006/table">
            <a:tbl>
              <a:tblPr/>
              <a:tblGrid>
                <a:gridCol w="555480"/>
                <a:gridCol w="714852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Kunden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Kunden.PLZ = t_Orte.PL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_Orte.PLZ,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t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kunft:PL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ppierung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ruppierung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zah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EF6-4DF4-4472-BB2C-F37A00F25260}" type="slidenum">
              <a:t>8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A4C61-AF75-46B3-9771-520B3ED54B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259236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d „Name1“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ld „Name2“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413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itere Felder auswä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4751280" cy="42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B65-E2AD-4BE8-BD6E-56A7E7BF04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F2F57-1077-4632-9A37-A8961026A7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11280" y="1125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gebn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9640" y="278136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QBE-Entwur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4176720" cy="14652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4248360" cy="31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CED-554E-466C-8E3B-8E59C4D9A528}" type="slidenum">
              <a:t>9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1DDBA-0661-4283-9E43-C2B060760F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fill="hold">
                      <p:stCondLst>
                        <p:cond delay="indefinite"/>
                      </p:stCondLst>
                      <p:childTnLst>
                        <p:par>
                          <p:cTn id="2155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11280" y="1268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n haben Sie die grundlegenden Möglichkeiten kennen gelernt, Abfragen zu erst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2205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 einem späteren Zeitpunkt werden wir noch mit etwas komplexeren Abfragen arb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31417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er was nützt das schöne Lernen, wenn es nicht 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überprüf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1280" y="4365720"/>
            <a:ext cx="78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hren Sie nun die entsprechende Klausur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to_klausu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uto_klausur.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urch. Die leere Datenbank finden Sie ebenfalls unter dem Namen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uto_klausur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uto_klausur.m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0283-CF21-4630-ACEC-846BC61E6625}" type="slidenum">
              <a:t>9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640AD-E0B5-465A-9F98-4C3D834A21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0" dur="indefinite" restart="never" nodeType="tmRoot">
          <p:childTnLst>
            <p:seq>
              <p:cTn id="2171" dur="indefinite" nodeType="mainSeq">
                <p:childTnLst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11280" y="1268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er nicht mogeln und jetzt schon die Lösung aufruf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19640" y="2924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Viel Glück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achim Röhl ©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16CA-220C-4873-903A-DB8EB182A2F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B331C-3F51-434F-B413-A7C42C2A14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6" dur="indefinite" restart="never" nodeType="tmRoot">
          <p:childTnLst>
            <p:seq>
              <p:cTn id="2197" dur="indefinite" nodeType="mainSeq">
                <p:childTnLst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8:21:29Z</dcterms:created>
  <dc:creator>Röhl</dc:creator>
  <dc:description/>
  <dc:language>en-US</dc:language>
  <cp:lastModifiedBy>Joachim Röhl</cp:lastModifiedBy>
  <dcterms:modified xsi:type="dcterms:W3CDTF">2002-11-02T16:13:31Z</dcterms:modified>
  <cp:revision>82</cp:revision>
  <dc:subject/>
  <dc:title>PowerPoint-Präsentation</dc:title>
</cp:coreProperties>
</file>