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E24-5705-4CE6-B14F-6473FE51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D35-E5CA-4D64-A6B5-22820196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6C2-D663-4366-A9E2-F2E2E9BF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777-7F41-4BC1-B3CE-7792CA98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B0E-E613-4FBA-847D-EE770039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D85-350B-480A-88E0-A4A8552C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CDA-09A2-4952-93FC-7EFD5767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BC7-C6A7-478D-8F5D-1A9F1FF9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347-4991-4D56-8F14-6108316F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EBE-B359-448D-8034-C7DB427B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3A2-F752-4CCA-A714-3E08D374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848-A57F-4CCE-9547-9762C7DD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A29F-1411-48B1-9A42-95A1DFF8E9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8BD6-2448-4E35-A727-DA48410E7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077320" cy="757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33520" y="1143000"/>
            <a:ext cx="8153280" cy="5029200"/>
          </a:xfrm>
          <a:prstGeom prst="rect">
            <a:avLst/>
          </a:prstGeom>
          <a:noFill/>
          <a:ln w="507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3808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22860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nsatz einer Datenbank zur Auftragserfas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uebung_verbindungen.xls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auf_erf.mdb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_computer.mdb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file:///t_Auftrag.XLS" TargetMode="External"/><Relationship Id="rId3" Type="http://schemas.openxmlformats.org/officeDocument/2006/relationships/hyperlink" Target="file:///t_Auftrag.XLS" TargetMode="External"/><Relationship Id="rId4" Type="http://schemas.openxmlformats.org/officeDocument/2006/relationships/hyperlink" Target="file:///t_Auftrag.XLS" TargetMode="Externa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_Kunden.TXT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hyperlink" Target="file:///tabelle_erstellen.doc" TargetMode="Externa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daten%20erfassen.doc" TargetMode="External"/><Relationship Id="rId2" Type="http://schemas.openxmlformats.org/officeDocument/2006/relationships/hyperlink" Target="file:///daten%20erfassen.doc" TargetMode="External"/><Relationship Id="rId3" Type="http://schemas.openxmlformats.org/officeDocument/2006/relationships/hyperlink" Target="file:///daten%20erfassen.doc" TargetMode="External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Beziehungen%20herstellen.doc" TargetMode="External"/><Relationship Id="rId2" Type="http://schemas.openxmlformats.org/officeDocument/2006/relationships/hyperlink" Target="file:///Beziehungen%20herstellen.doc" TargetMode="External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hyperlink" Target="file:///Referentielle%20Integrit&#228;t.doc" TargetMode="External"/><Relationship Id="rId3" Type="http://schemas.openxmlformats.org/officeDocument/2006/relationships/hyperlink" Target="file:///Referentielle%20Integrit&#228;t.doc" TargetMode="External"/><Relationship Id="rId4" Type="http://schemas.openxmlformats.org/officeDocument/2006/relationships/hyperlink" Target="file:///Referentielle%20Integrit&#228;t.doc" TargetMode="Externa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1484280"/>
            <a:ext cx="784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arum arbeiten wir mit Datenban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bentwurf einer Datenbank 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fahrungswissenschaftlicher An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nbank anleg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abell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el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Attribu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Eigenscha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knüpfungen zwischen den Tabellen h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987-6F80-40EB-A600-7DF318DCFA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B7F61-1FC0-42E2-9BC1-18CCD9FC97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480" y="2276640"/>
            <a:ext cx="777240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Daten des Kunden w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nden-Nr, Name, Anschrif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üssen mehrfach eingegeb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Daten, die den Artikel beschreib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tikel-Nr, Bezeichnung, Prei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üssen mehrfach eingegeb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341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Überlegen Sie kritisch, ob das hier gewählte Verfahren zur Eingabe der Daten in das Computersystem sinnvoll 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766-7366-4465-BF6C-F53E503D70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BF390-DCE7-467A-9CCD-2DFDC10D2D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77336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einfachung und Beschleunigung der Arbeit  (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Wirtschaftlichkei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 über ein Objekt (Kunde, Artikel) soll nur einmal gespeichert werden (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Redundanzvermeid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 über ein Objekt müssen fehlerfrei und vollständig sein (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Datenintegritä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 müssen eindeutig sein (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Datenkonsistenz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jeweilige Nutzer braucht nur die Daten zu sehen, die er für einen bestimmten Zweck brauch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benutzerorientierte Sicht der Dat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34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lche Aufgaben hat eigentlich die Datenbank?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00B-DE57-4936-A02C-D76A06AEE05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3EAAE-87CC-4B1F-93E8-7225DB3636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1484280"/>
            <a:ext cx="784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um arbeiten wir mit Datenban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bentwurf einer Datenbank -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rfahrungswissenschaftlicher An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nbank anleg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abell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el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Attribu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Eigenscha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knüpfungen zwischen den Tabellen h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F28-454E-4D28-AE16-DC0EC122BE9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D1911-6061-4946-9748-E942D843E2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10526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struktur der verwendeten Tabe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55640" y="1628640"/>
          <a:ext cx="2087640" cy="411480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fttrags-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den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der Fi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ß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tleitza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kel-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kel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stellte Einhei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is pro Stü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2987640" y="2133720"/>
            <a:ext cx="0" cy="17287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3141720"/>
            <a:ext cx="10080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2924280"/>
            <a:ext cx="1871640" cy="459720"/>
          </a:xfrm>
          <a:prstGeom prst="rect">
            <a:avLst/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Kunden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5640" y="4292640"/>
            <a:ext cx="1871640" cy="45972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rtikel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4365720"/>
            <a:ext cx="93492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916360" y="4581360"/>
            <a:ext cx="863640" cy="21600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6360" y="4797360"/>
            <a:ext cx="792000" cy="71928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5157720"/>
            <a:ext cx="331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1916280"/>
            <a:ext cx="331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4221000"/>
            <a:ext cx="331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43280" y="2276640"/>
            <a:ext cx="331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227640" y="3429000"/>
            <a:ext cx="289080" cy="792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3068640"/>
            <a:ext cx="2016360" cy="459720"/>
          </a:xfrm>
          <a:prstGeom prst="rect">
            <a:avLst/>
          </a:prstGeom>
          <a:noFill/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uftrags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227640" y="3645000"/>
            <a:ext cx="360360" cy="151272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56360" y="2276640"/>
            <a:ext cx="360360" cy="1008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56360" y="1916280"/>
            <a:ext cx="431640" cy="115236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007-D501-4B9E-AB2A-7632F1C7C18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D8911-25B1-4833-AED0-8528EFE3EF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920000" cy="3141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87280" y="2852640"/>
            <a:ext cx="1810080" cy="1247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35280" y="2997360"/>
            <a:ext cx="1857600" cy="1238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4360" y="1197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Änderung der Datenstruktur : Aufteilung in drei 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1844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1844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1844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372360" y="2852640"/>
            <a:ext cx="1590480" cy="495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635280" y="4581360"/>
            <a:ext cx="1857600" cy="23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6300720" y="5084640"/>
            <a:ext cx="1533600" cy="219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635280" y="5084640"/>
            <a:ext cx="1857600" cy="28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EE9-EA15-48D6-92C4-31D2714D749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935AD-E584-4C08-A3DC-D1FA40A9F5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84720" y="2060640"/>
            <a:ext cx="0" cy="10810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052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e Datenstrukt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0000" y="2637000"/>
          <a:ext cx="7236000" cy="2766960"/>
        </p:xfrm>
        <a:graphic>
          <a:graphicData uri="http://schemas.openxmlformats.org/drawingml/2006/table">
            <a:tbl>
              <a:tblPr/>
              <a:tblGrid>
                <a:gridCol w="393840"/>
                <a:gridCol w="1866600"/>
                <a:gridCol w="355680"/>
                <a:gridCol w="2003400"/>
                <a:gridCol w="393840"/>
                <a:gridCol w="1892160"/>
                <a:gridCol w="3304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den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fttrags-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kel-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der Fi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den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kel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ß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kel-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is pro Stü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tleitza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stellte Einhei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1332000" y="234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t_K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t_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2349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9900"/>
                </a:solidFill>
                <a:latin typeface="Times New Roman"/>
              </a:rPr>
              <a:t>t_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1628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lüsselfelder zur eindeutigen Identifik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700360" y="2205000"/>
            <a:ext cx="287280" cy="863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2060640"/>
            <a:ext cx="360360" cy="1008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3141720"/>
            <a:ext cx="1371600" cy="237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64000" y="3141720"/>
            <a:ext cx="1228680" cy="247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012000" y="3141720"/>
            <a:ext cx="933480" cy="22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BDF-2A7A-48B3-B692-5DE071871BC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75616-0101-4DAF-AF46-21E6915B5B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1341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indung der 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7886520" cy="1895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71640" y="5373720"/>
            <a:ext cx="719280" cy="21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435280" y="5373720"/>
            <a:ext cx="934920" cy="360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3BD-B05E-4ED4-984D-DCBCA8EA85B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4F0AA-E214-4946-9B4F-10795B379B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2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29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2421000"/>
            <a:ext cx="777240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teilung der Daten nach dem jeweiligen Objek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ier: Kunde, Artikel, Auftr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stlegung eines Schlüsselfel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stlegung der Verbindungen zwischen den 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341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usammenfassung der bisherigen Erkenntniss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gehen wir vor bei der Konstruktion einer Datenban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8F0-21F2-46ED-B58A-2910E920135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D08C6-650B-4CCB-9BCA-8D64B808A2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3280" y="3716280"/>
            <a:ext cx="6050160" cy="2230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1280" y="134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ige Begr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98900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atenban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s ist eine Menge von Tabellen, die so aufeinander abgestimmt sind, dass Verknüpfungen zwischen ihnen möglich si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3573360"/>
            <a:ext cx="6553080" cy="2448000"/>
          </a:xfrm>
          <a:prstGeom prst="rect">
            <a:avLst/>
          </a:prstGeom>
          <a:solidFill>
            <a:srgbClr val="ff3300">
              <a:alpha val="15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642920" y="4581360"/>
            <a:ext cx="57636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DBD-0D00-41D4-9E84-C9E54A40F9D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8C551-E584-4357-9509-2BFB5A728B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03280" y="3716280"/>
            <a:ext cx="6050160" cy="2230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134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ige Begr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1989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abelle, Rel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sind alle Datensätze mit einheitlichen Merkmalen für ein Objekt gespeichert, z.B. Mitarbei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92640"/>
            <a:ext cx="3166920" cy="1584360"/>
          </a:xfrm>
          <a:prstGeom prst="rect">
            <a:avLst/>
          </a:prstGeom>
          <a:solidFill>
            <a:srgbClr val="ff3300">
              <a:alpha val="15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642920" y="4581360"/>
            <a:ext cx="57636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CA8-EFEC-4199-A137-51780AE8F4E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7F68B-BFB1-4387-8FFA-2EC7507317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341360"/>
            <a:ext cx="7848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nem Computershop müssen einige Aufträge in das Computersystem eingegeben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für steht eine vorstrukturierte Datenbank zur Verfügu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4C3-1F9A-49D3-88F4-43FAD3B966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7BD50-08FD-479F-BB96-31BF87196C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03280" y="3716280"/>
            <a:ext cx="6050160" cy="2230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11280" y="134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ige Begr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1989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tensatz, Tupel, Zeil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erunter verstehen wir alle Informationen / Attribute für ein einzelnes Objekt (z.B. für die Mitarbeiterin Ute Me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5084640"/>
            <a:ext cx="3095640" cy="360360"/>
          </a:xfrm>
          <a:prstGeom prst="rect">
            <a:avLst/>
          </a:prstGeom>
          <a:solidFill>
            <a:srgbClr val="ff3300">
              <a:alpha val="15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642920" y="4581360"/>
            <a:ext cx="57636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813-4F67-46FC-BD7E-94E55174611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3E436-991A-4F83-9827-6B63DF311C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03280" y="3716280"/>
            <a:ext cx="6050160" cy="2230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11280" y="119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ige Begr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48428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ttribut, Datenfeld, Spaltenname, Feldnam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s Attribut entspricht einem Merkmal eines Tupels (Datensatz) und beschreibt eine spezifische Eigenschaft eines Objekts (Beispiel: Name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hat folgende Eigenschaften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me, Typ, Lä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4437000"/>
            <a:ext cx="576360" cy="360360"/>
          </a:xfrm>
          <a:prstGeom prst="rect">
            <a:avLst/>
          </a:prstGeom>
          <a:solidFill>
            <a:srgbClr val="ff3300">
              <a:alpha val="15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642920" y="4581360"/>
            <a:ext cx="57636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35F-53F7-461E-B9D8-386A9C99555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B73F7-8E1B-4C0A-A58B-40D9B63CC8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3716280"/>
            <a:ext cx="6050160" cy="2230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11280" y="119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ige Begr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628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ttributwert, Feldinhalt, Wert, Datu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s ist die jeweilige Information, welche das zugehörige Attribut eines Tupels beschreibt. Sie besteht aus einzelnen Zeichen (numerisch, alpha-numerisch)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: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5445000"/>
            <a:ext cx="576360" cy="360360"/>
          </a:xfrm>
          <a:prstGeom prst="rect">
            <a:avLst/>
          </a:prstGeom>
          <a:solidFill>
            <a:srgbClr val="ff3300">
              <a:alpha val="15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42920" y="4581360"/>
            <a:ext cx="57636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F6C-ACD7-4D0A-959F-BB33F424DEE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D716D-4951-4C40-8D86-089D8B2814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3280" y="3716280"/>
            <a:ext cx="6050160" cy="223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11280" y="119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ige Begr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1628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Primärschlüssel, Identifikationsschlüssel, ID-Schlüssel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s Tupel einer Relation muss mittels eines Schlüssels eindeutig identifizierbar sein. In der Relation Mitarbeiter ist die Mitarbeiter_Nr der Primärschlüssel, da jeder Mitarbeiter hierdurch eindeutig identifiziert werden kan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4437000"/>
            <a:ext cx="1152360" cy="360360"/>
          </a:xfrm>
          <a:prstGeom prst="rect">
            <a:avLst/>
          </a:prstGeom>
          <a:solidFill>
            <a:srgbClr val="ff3300">
              <a:alpha val="15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642920" y="4581360"/>
            <a:ext cx="57636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4EF-E515-4550-AD65-B6EEE7E2A12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8443D-561C-48B5-95C4-593171C227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03280" y="3716280"/>
            <a:ext cx="6050160" cy="2230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1280" y="119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ige Begr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48428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Fremdschlüssel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eine Verbindung zwischen zwei Tabellen herstellen zu können, muss der Primärschlüssel einer Tabelle in der verbundenen Tabelle ebenfalls vorhanden sein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: PLZ ist in t_Postleitzahlen der Primärschlüssel und in t_Mitarbeiter ein Fremdschlüss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4437000"/>
            <a:ext cx="720720" cy="360360"/>
          </a:xfrm>
          <a:prstGeom prst="rect">
            <a:avLst/>
          </a:prstGeom>
          <a:solidFill>
            <a:srgbClr val="ff3300">
              <a:alpha val="15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642920" y="4581360"/>
            <a:ext cx="57636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4437000"/>
            <a:ext cx="720720" cy="360360"/>
          </a:xfrm>
          <a:prstGeom prst="rect">
            <a:avLst/>
          </a:prstGeom>
          <a:solidFill>
            <a:srgbClr val="ff3300">
              <a:alpha val="15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EB0-01F6-4A30-933C-DFB6BF6C84AD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2A1B2-4A95-4DE0-BB41-E42404ECA6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119700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Übu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ichnen Sie die Verbindungen zwischen den Tabellen e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408720" cy="3200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1280" y="515772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fen Sie die Excel-Tabelle auf, in der diese Darstellung enthalten ist.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xcel-Tabel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CEF-63FB-4576-9F79-D093D781EDDB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49E3F-91BB-42A6-817A-5D74482890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1484280"/>
            <a:ext cx="784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um arbeiten wir mit Datenban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bentwurf einer Datenbank 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fahrungswissenschaftlicher An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atenbank anlege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 Tabelle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 Felder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 Attribute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 Eigenscha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knüpfungen zwischen den Tabellen h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C28-0E55-410C-844D-34416A6AC65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88864-BA05-41C6-9379-46EA1AD3B3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4360" y="141300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ielvorgab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soll die Datenbank „Computer.mdb“ erstell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349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Datenbank soll folgende Tabellen beinhal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2997360"/>
            <a:ext cx="4105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_Kd_Ko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_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_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_Au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_K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75C-D16C-47FB-8A5D-8A72779679C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20A65-7937-41E9-8CB5-51EC97E90E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7993080" cy="2768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11280" y="134136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tenbank „Computer.mdb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F1D-880B-4190-9164-B4952507A850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B815C-1681-4D99-9046-DF9BB947F5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141300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_Kd_Kondi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er werden die Kundenkonditionen gespeichert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se Tabelle soll von Ihnen erstell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7344000" cy="241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ED6-800B-4785-BAC3-C9A6E3926583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47C66-8E64-468D-AB72-655CF0609B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2685960" cy="962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16000" y="5084640"/>
            <a:ext cx="1981080" cy="9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1341360"/>
            <a:ext cx="39607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fgab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fen Sie ACCESS auf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den Sie die Datei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-erf,mdb</a:t>
            </a:r>
            <a:br>
              <a:rPr sz="2400"/>
            </a:b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 MT Extra Bold"/>
                <a:hlinkClick r:id="rId3"/>
              </a:rPr>
              <a:t>auf-erf.m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341360"/>
            <a:ext cx="50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fgab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en Sie das Objek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ormulare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fen Sie das Formula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_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ftrag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 Doppelklick auf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284720" y="3357720"/>
            <a:ext cx="3095640" cy="239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CA0-3DF0-466F-ACCC-D4652D90860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CE456-32FD-43A0-B033-90E4B9A72D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4360" y="1341360"/>
            <a:ext cx="755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_Or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er werden die Postleitzahlen und die Ortsbezeichnungen gespeichert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se Tabelle sollen Sie mit dem Tabellenassistenten erstellen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leichzeitig soll ei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rmular erstell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3384720" cy="30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C3C-FED2-4064-AB39-870954CA085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CF703-7F37-45D2-A94E-310E8E3EE6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360" y="134136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_Comput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se Tabelle beinhaltet alle Artikeldaten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e liegen als Datei im Format einer ACCESS-Datenbank vor und müssen importiert werden. 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_Computer.mdb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chtung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erprüfen S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 dem Impor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n Datenty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059280" y="3284640"/>
            <a:ext cx="5472000" cy="207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355-C222-4CA9-908F-30AA571F0CA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739E2-2D86-46AA-A10A-C31B056308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76720" y="3141720"/>
            <a:ext cx="4824360" cy="2093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4360" y="134136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_Auftra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se Tabelle beinhaltet alle Auftragsdaten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e liegen als EXCEL-Datei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r und müssen importiert werden.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EXCEL-Datei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314172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chtu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überprüfen Si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 dem Impor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 Datent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B92-0F8E-4275-9BAC-40260BA68B8B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D3D14-BDEC-44C0-BF91-1C673F328E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11280" y="112536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_Kund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se Tabelle beinhaltet alle Kundendaten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e liegen als Text-Datei vor und müssen importiert werden. 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ext-Date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chtung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tellen Sie als Trennzeichen den Tabulator ein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erprüfen Sie nach dem Import den Datenty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7489800" cy="193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69D-038D-4F73-B6D7-E38AEFA3DE72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1ACE4-B05F-4ED8-8320-079F641323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46101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n Sie nun das ACCESS Program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 Sie eine neue Datenbank 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1442880" cy="1655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11280" y="2997360"/>
            <a:ext cx="4898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llen Sie das Laufwerk e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042920" y="3645000"/>
            <a:ext cx="2016360" cy="604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11280" y="4365720"/>
            <a:ext cx="4898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egen Sie als Name „computer“ fe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971640" y="4941720"/>
            <a:ext cx="4032000" cy="8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CAD-D884-4EFC-A4FD-EA07038D689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3C677-FA97-404B-8E4C-1564682E63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11280" y="1125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stellt nun eine leere Datenbank zur Verfüg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905440" cy="423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5A3-CC9B-4BCB-84CB-7D98F59E1E7B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237A5-75EB-422D-AAF6-A0AC33D724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9640" y="1197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n soll die Tabelle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_Kd_Kondi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stellt werd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6767280" cy="3012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9640" y="1628640"/>
            <a:ext cx="74170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fen Sie „Neu“ au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 Fenster „Neue Tabelle“ legen Sie „Entwurfsansicht“ fe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E80-B837-41D2-81DE-C096CFAF4571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4A978-8DF9-4D91-B025-B0876B4E02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960720" cy="1079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1409760" cy="244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9640" y="1268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stellt eine Struktur für eine neue Tabelle zur Verfügu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3500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er Spalten „Felddatentyp“ lässt sich eine Auswahlliste öff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479736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formieren Sie sich über die Felddatentypen in der Textdaten „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abelle_erstell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“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997-0310-4F16-B140-DC4B2AA9ADD0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5D139-9A05-4AF2-A2AF-E8F2146BDF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1280" y="134136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ieser Tabelle soll die Struktur der Tabelle für die Kunden-Konditionen festgelegt werde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e soll folgende Daten aufneh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2708280"/>
            <a:ext cx="72738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d_Ar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lüsselfel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typ Zahl, Feldgröße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bat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battsatz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typ Zahl, Feldgröße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konto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kontosatz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typ Zahl, Feldgröße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d_Art_Tex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sätzliche Erläuterun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typ Tex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änge 30 Ze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3CB-85FD-4868-941B-539D93EC75C3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F3901-43E7-4034-9DB2-1C7A4E02B2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4360" y="1413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gen Sie nun für das Feld kd_Art den Feldnamen, den Felddatentyp sowie die Feldgröße fe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5688000" cy="1933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7777440" cy="88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674-A56F-4150-931D-787F3E3A1D4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C0F77-1741-4A76-BB66-6E92058E33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134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iesem Formular sind die Bestelldaten einzutra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113080" cy="4325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4427640" y="2637000"/>
            <a:ext cx="2520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20000" y="2276640"/>
            <a:ext cx="1584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ier nichts eintrag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70C-AD95-4DDF-899E-3826FB2DA25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BDD73-5C02-4D31-BC1A-6B393B4BB5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9640" y="119700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 dieses Feld die jeweilige Art der Kunden-Konditionen enthält und hierüber identifiziert und der Skonto- als auch der Rabattsatz zugeordnet werden soll, ist dieses Feld als Schlüsselfeld zu bestim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51577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erfür muss der Cursor im Feld „Kd_Art“ stehen und in der Symbolleiste das Schlüsselsymbol angeklick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2781360"/>
            <a:ext cx="6337080" cy="230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1A0-08DE-48F4-B75B-130CE850228C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7509C-F1DD-4CCC-A415-5777A9EC0C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39640" y="1197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r die Beschriftung tragen Sie „Kundenart“ e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4392360" cy="361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284720" y="4149720"/>
            <a:ext cx="3959280" cy="1949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8064360" cy="762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9640" y="213372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ch soll hier eine Gültigkeitsregel und eine Gültigkeitsmeldung festgeleg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422100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den bei der Eingabe nun ungültige Werte eingegeben, wird folgende Fehlermeldung angezei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57C-5324-425F-AEDE-CFEF2E9AFFD1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5F30E-5188-4E05-8761-D3928FAB68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11280" y="134136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1197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 Sie nun die Eigenschaften für das Feld „Rabatt“ fe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416720" cy="349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11280" y="4869000"/>
            <a:ext cx="758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komplette Text für die Gültigkeitsregel lautet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itte nur Werte eingeben, die größer sind als 0 und gleichzeitig nicht größer sind als 30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7343640" cy="229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BE4-39CF-43ED-A4CA-70BAA57520FE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0C029-B9C9-4081-9816-A3A93A9DA3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1280" y="134136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4869000"/>
            <a:ext cx="758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komplette Text für die Gültigkeitsregel lautet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itte nur Werte eingeben, die größer sind als 0 und gleichzeitig nicht größer sind als 3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1197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 Sie nun das Feld „Skonto“ entsprechend fe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21440" cy="345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7921440" cy="241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2A0-F685-43C4-B19F-45CED3E9B030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F6B33-E28B-48E7-B693-57F4E044AF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9640" y="1197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s letztes Feld muss noch „Kd_Art_Text “festgeleg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047760" cy="15714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7632720" cy="316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6192720" cy="1581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V="1">
            <a:off x="3780000" y="558972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732720" y="558972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6A3-9432-4697-B560-84EFB713EF0B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D3883-A3AD-46E4-88C1-8D6ED1DA05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9640" y="119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ichern Sie diese Tabelle nun als Kd_Kond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771720" cy="26668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11280" y="458136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chseln Sie von der Entwurfsansicht in die Datenblattansic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00720" y="4437000"/>
            <a:ext cx="3384360" cy="156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DDC-F6E6-4484-A43C-2FD9F636874D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6E5AB-1351-4C30-AC59-A9629EC5E9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9640" y="119700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n können Sie die Daten in die Tabelle Kd_Kondi eing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1989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sen Sie vorher die Informationen in der Datei „daten_erfassen.doc“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„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aten_erfassen.doc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278136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611280" y="3284640"/>
            <a:ext cx="7632720" cy="22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27D-046D-44E8-A616-3FB3F80E362B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231DB-6487-4283-8A93-7ECA315744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11280" y="1341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s nächste Tabelle ist t_Orte anzulegen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erzu soll ein Assistent genutz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345440" cy="2497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55640" y="508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tivieren Sie diesen Assistenten durch Doppelkli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506-2260-4B4C-AA04-641380E98625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366D8-93C4-4C82-9612-C6A91B86FF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39640" y="1341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ählen Sie nun a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2144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4360" y="501336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Ändern Sie die Feldbezeichnung „Postleitzahl“ in „PLZ“ a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B33-7370-4EA5-BE53-A67660F41467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AE1FA-52BD-4CD9-AC63-3C9129E136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197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 nächsten Schritt bestimmten Sie den Namen der Tabe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75280" cy="3929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11280" y="558972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 Primärschlüssel legen wir anschließend selbst fe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D60-5AD6-446B-9EBE-A9066015AF88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D88F5-6845-4F8C-B3DC-CCF95CD0A6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132000" y="1413000"/>
          <a:ext cx="4753080" cy="3349440"/>
        </p:xfrm>
        <a:graphic>
          <a:graphicData uri="http://schemas.openxmlformats.org/drawingml/2006/table">
            <a:tbl>
              <a:tblPr/>
              <a:tblGrid>
                <a:gridCol w="2219400"/>
                <a:gridCol w="2533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fttrags-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den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der Fi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rtstudio Zab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ß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stanienweg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tleitza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h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kel-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kel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book 2,0 GHz T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stellte Einhei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is pro Stü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11280" y="134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tr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486900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 der Einga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te h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03640" y="4869000"/>
            <a:ext cx="5472000" cy="420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2050920" y="5229360"/>
            <a:ext cx="4897440" cy="2872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73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ic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E95-6E50-4C71-8047-06B82C4E228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7C917-5040-4968-8BCB-ED08262B78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1197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n wird das Feld bestimmt, über den der jeweilige Datensatz identifiziert werden so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5903640" cy="398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E55-3A4F-468D-9654-0CDAF06DD221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363BA-D2B4-4291-AE2F-E73894086F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9640" y="1197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Assistent versucht, eine Verbindung zu einer bereits vorhandenen Tabelle herzustellen – ohne Erfol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5976720" cy="403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B8A-7221-4487-9389-7ED9F3CD4405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470D5-D1F8-4213-A67C-45FC8E7C22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39640" y="1197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chließend soll der Assistent ein Formular zur einfachen Eingabe der Daten erzeu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5688000" cy="38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2C8-B676-4FA3-8ACF-F79FA18233A3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6C7DF-4211-4127-9CE9-BF31E06911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1197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Assistent hat nach einigen Sekunden ein kleines Formular zur Eingabe der Daten erzeug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064360" cy="26128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84360" y="4941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vor Sie die Daten eingeben, überprüfen Sie erst die Datenstruktur, die der Assistent in t_Orte erzeugt hat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ließen Sie hierzu das Formular und speichern Sie 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4A6-DB40-41FC-BA1E-B26E7A41CC5C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8D19C-0525-4120-BAB1-4AA9F36906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39640" y="1197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r das Feld „PLZ“ sollen nun folgende Festlegungen gel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920000" cy="7984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4464000" cy="25858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11280" y="55897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hmen Sie die notwendigen Änderungen v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803-9CD8-4A3C-8B4C-8BA28046FB9E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DFC06-7C54-45A2-B3A0-D863EFDA0E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9640" y="1197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r das Feld „Ort“ sollen nun folgende Festlegungen gel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920000" cy="728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4103640" cy="2514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11280" y="55897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hmen Sie die notwendigen Änderungen v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8A5-D568-42EA-BAF1-A22D2456E4C5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21596-1777-42DF-8315-13BE68CDFD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9640" y="1197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ließen Sie nun die Tabelle und rufen Sie das Formul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„t-Orte“ au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1989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ben Sie nun die Postleitzahlen mit den zugehörigen Orten e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489600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56B-52A4-4897-95C6-C75B8063E025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516F8-64F3-4F7A-8316-E4049E00A3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39640" y="1197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Artikel-Daten, die in der nächsten Tabelle „t_Computer“ gespeichert werden sollen, liegen bereits als ACCESS-Datenbank v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1280" y="342900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portieren Sie nun die Daten aus der Access-Datenbank in die Tabelle „t_Computer“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7345440" cy="4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175-BA3B-474A-BC25-F37F8E50ABD4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EAD90-8039-4583-982C-44EAF73F37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9" dur="indefinite" restart="never" nodeType="tmRoot">
          <p:childTnLst>
            <p:seq>
              <p:cTn id="1570" dur="indefinite" nodeType="mainSeq">
                <p:childTnLst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9640" y="1197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fen Sie im Menü „Datei“ die Option „Externe Daten“ und dann „Importieren“ auf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4970520" cy="1055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708360" y="3068640"/>
            <a:ext cx="1295280" cy="6825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3851280" y="4365720"/>
            <a:ext cx="4176720" cy="631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11280" y="2997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llen Sie das Unterverzeichnis e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422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ählen Sie den Datentyp a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51577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ählen Sie nun die Datei a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3851280" y="5300640"/>
            <a:ext cx="280836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3DF-5CA1-4249-96C8-ED1B8038268E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8546E-5472-4560-A1C2-4A480551B8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8" dur="indefinite" restart="never" nodeType="tmRoot">
          <p:childTnLst>
            <p:seq>
              <p:cTn id="1589" dur="indefinite" nodeType="mainSeq">
                <p:childTnLst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39640" y="1197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ählen Sie nun die zu übernehmende Tabelle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6912000" cy="1344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360" y="5300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Überprüfen Sie nun die Festlegungen für die Datenfeld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uen Sie sich danach die Daten 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3213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übernimmt nun die Daten aus der ausgewählten Tabe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5472000" cy="132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9C1-786B-4F61-BF22-CA9734618C31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EF599-18B3-4D81-816F-E98D54FD0C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132000" y="1413000"/>
          <a:ext cx="4753080" cy="3349440"/>
        </p:xfrm>
        <a:graphic>
          <a:graphicData uri="http://schemas.openxmlformats.org/drawingml/2006/table">
            <a:tbl>
              <a:tblPr/>
              <a:tblGrid>
                <a:gridCol w="2219400"/>
                <a:gridCol w="2533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fttrags-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den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der Fi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rtstudio Zab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ß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stanienweg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tleitza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h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kel-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kel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cker HP 630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stellte Einhei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is pro Stü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11280" y="134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tr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86900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 der Einga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te h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03640" y="4869000"/>
            <a:ext cx="5472000" cy="420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2050920" y="5229360"/>
            <a:ext cx="4897440" cy="2872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73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ic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77D-3DAD-4ABC-AB77-C91061337F0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F1D49-67DA-45F4-9D2B-45CDCFD064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9640" y="1197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n muss die Tabelle „t_Auftrag“ erzeugt werden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Daten hierfür liegen bereits als EXCEL-Tabelle v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6984720" cy="4237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39640" y="2637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portieren Sie diese Tabelle und erzeugen Sie hieraus die ACCESS-Tabelle „t_Auftrag“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371628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tung: Es wird in diesem Fall kein Primärschlüssel vergeb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9640" y="4869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el Glü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B2A-4815-4DE8-947C-3AA9579F846A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ECBB8-77F6-40BB-935E-B5037785EC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9" dur="indefinite" restart="never" nodeType="tmRoot">
          <p:childTnLst>
            <p:seq>
              <p:cTn id="1660" dur="indefinite" nodeType="mainSeq">
                <p:childTnLst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9640" y="119700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wohl die Tabelle „t_Auftrag“ als auch die Tabelle „t_Computer“ enthalten das Feld „Art_Nr“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se beiden Felder müssen in ihrer Struktur übereinstimmen, da hierüber die Verknüpfung der Tabellen vorgenommen wi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84360" y="2781360"/>
            <a:ext cx="7561080" cy="1622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788000" y="3573360"/>
            <a:ext cx="2519280" cy="287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3573360"/>
            <a:ext cx="2519280" cy="287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4653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Ändern Sie nun in der Tabelle „t_Auftrag“ die Eigenschaften für das Feld „Art_Nr“ entsprechend der Tabelle „t_computer“ a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EC4-00D7-4E79-860B-20047E517749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6FBC8-C552-4A99-8E33-46B9E58771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9640" y="1197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n muss nur noch die Tabelle „t_Kunden“ erzeugt werden. Die Daten liegen bereits in der Textdatei „t_Kunden.txt“ v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704000" cy="533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539640" y="263700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portieren Sie diese Tabelle und erzeugen Sie hieraus die ACCESS-Tabelle „t_Kunden“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chtung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tellen Sie als Trennzeichen den Tabulator ein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erprüfen Sie nach dem Import den Datenty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D83-9D23-408A-B2B3-D8511723F673}" type="slidenum">
              <a:t>6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35284-29F5-40A1-A3F7-53FC8B374C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9640" y="1197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chritt: Achten Sie auf die Einstell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61440" cy="3179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V="1">
            <a:off x="1258920" y="3357720"/>
            <a:ext cx="0" cy="25192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116000" y="4076280"/>
            <a:ext cx="0" cy="1800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396F-10F8-4086-A1D0-AEA9971546A2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FB471-9F2E-4B4C-8AF8-1B089477D0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1197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chritt: Es sind keine Änderungen notwend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632720" cy="1949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 flipV="1">
            <a:off x="971640" y="3212640"/>
            <a:ext cx="0" cy="1800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812-0E65-4A26-9A23-3D82FAE6BE56}" type="slidenum">
              <a:t>6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1AF98-B833-487D-B708-6C981D4581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9640" y="1197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chritt: Nehmen Sie diese Änderungen v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056360" cy="30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 flipV="1">
            <a:off x="2124000" y="3715920"/>
            <a:ext cx="0" cy="1800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940000" y="3284280"/>
            <a:ext cx="71640" cy="2160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366-24BE-47FD-8C86-3868FE629ED6}" type="slidenum">
              <a:t>6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1E3EF-618E-47ED-81A2-C1F2A0AF3F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9640" y="1197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chritt: Nehmen Sie diese Änderungen v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343640" cy="31986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 flipV="1">
            <a:off x="5508720" y="3499920"/>
            <a:ext cx="0" cy="1800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2BB-9697-438D-8F35-E7DA47B2A1FF}" type="slidenum">
              <a:t>6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8FDB7-3ABE-4B52-825A-1B91036C18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2" dur="indefinite" restart="never" nodeType="tmRoot">
          <p:childTnLst>
            <p:seq>
              <p:cTn id="1803" dur="indefinite" nodeType="mainSeq">
                <p:childTnLst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9640" y="1197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chritt: Nehmen Sie diese Änderung v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6048360" cy="1241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V="1">
            <a:off x="1116000" y="3068280"/>
            <a:ext cx="0" cy="1800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A1E-76C4-44E5-8260-20822846E696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635B7-E4E9-4891-97BA-A2AD239C3A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39640" y="1197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schlussarbeiten in der Tabelle „t_Auftrag“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1844640"/>
            <a:ext cx="7273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ssen Sie die Eigenschaften des Feldes „PLZ“ an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Eigenschaften dieses Feldes in der Tabelle „t_Orte“ an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ssen Sie die Eigenschaften des Feldes „Kd_Art“ 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die Eigenschaften dieses Feldes in der Tabell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„t_Kd_Kondi“ 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D5D-5390-4A59-A3CC-60B59643051C}" type="slidenum">
              <a:t>6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6A19B-2F86-4E82-9FBA-DDDC0E074C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11280" y="1484280"/>
            <a:ext cx="784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um arbeiten wir mit Datenban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bentwurf einer Datenbank 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fahrungswissenschaftlicher An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nbank anleg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abell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el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Attribu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Eigenscha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erknüpfungen zwischen den Tabellen h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DC6-8797-451F-BF83-9D4AAA18C088}" type="slidenum">
              <a:t>6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87C35-2B43-496D-9484-9DEC76DE79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2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2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132000" y="1413000"/>
          <a:ext cx="4753080" cy="3593880"/>
        </p:xfrm>
        <a:graphic>
          <a:graphicData uri="http://schemas.openxmlformats.org/drawingml/2006/table">
            <a:tbl>
              <a:tblPr/>
              <a:tblGrid>
                <a:gridCol w="2219400"/>
                <a:gridCol w="2533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fttrags-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den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der Fi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uerberater Ternie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ß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nburger Str. 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tleitza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h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kel-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kel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book 2,0 GHz T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stellte Einhei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is pro Stü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611280" y="134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trag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486900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 der Einga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te h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32000" y="5013360"/>
            <a:ext cx="5472360" cy="420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2050920" y="5300640"/>
            <a:ext cx="4897440" cy="2872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573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ic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168-5F2B-41B1-A9F8-70BE37026AF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A70CB-5495-48DC-A11C-8FB052EF5A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11280" y="119700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sen Sie nun die Informationen im Tex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ziehungen herstellen.do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“.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Beziehungen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stellen.do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“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076720" y="2133720"/>
            <a:ext cx="3527640" cy="12650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11280" y="20606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fen Sie nun das Menü „Extras“ und dann „Beziehungen“ au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9640" y="32846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gen Sie alle Tabellen hinz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5329080" cy="234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653-79A9-40FB-98EC-5B0D91FE4B58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7645C-FDC7-4DD6-9BA2-2E32B44449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4360" y="141300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ieben Sie nun die Tabellen in diese Positio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559640" cy="270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9C2-865E-4C22-B5C8-32B3A919611C}" type="slidenum">
              <a:t>7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D2089-7B32-4501-95FD-5F9CAA9F5D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10920" y="1844280"/>
            <a:ext cx="77785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licken Sie in der Tabelle „t_Orte“ das Feld „PLZ“ 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wegen Sie den Cursor mit gedrückter linker Maustaste auf das Feld „PLZ“ in der Tabelle „t_Kunden“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ssen Sie die Taste los. Es erscheint folgende Abbild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1280" y="105264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r die Herstellung der Verbindung gehen Sie folgendermaßen v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492360" y="3284640"/>
            <a:ext cx="4680000" cy="2819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84360" y="3645000"/>
            <a:ext cx="26636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esen Sie den Text „referentielle Integrietät.doc“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eferentielle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Integrietät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41D-4109-40C3-924B-1D0DF5E56B62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5D024-661A-468E-83B8-FB224F5196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1" dur="indefinite" restart="never" nodeType="tmRoot">
          <p:childTnLst>
            <p:seq>
              <p:cTn id="1922" dur="indefinite" nodeType="mainSeq">
                <p:childTnLst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2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2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2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2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11280" y="2060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n Tabelle „t_Kd_Kondi“ Feld „Kd_Ar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Tabelle „t_Kunden“ Feld „Kd_Art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n Tabelle „t_Kunden“ Feld „Kd_Nr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Tabelle „t_Auftrag“ Feld „Kd_N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n Tabelle „t_Computer“ Feld „Art_Nr“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Tabelle „t_Auftrag“ Feld „Art_N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" y="1413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llen Sie nun folgende Beziehungen h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67C-77F3-49FF-A6FA-52D60E3CD6C5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78806-6EB9-474B-9F9C-2645A0DA72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8" dur="indefinite" restart="never" nodeType="tmRoot">
          <p:childTnLst>
            <p:seq>
              <p:cTn id="1959" dur="indefinite" nodeType="mainSeq">
                <p:childTnLst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2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2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2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2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1413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27684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 flipV="1">
            <a:off x="2195640" y="2708280"/>
            <a:ext cx="0" cy="19447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356000" y="2923920"/>
            <a:ext cx="0" cy="18730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4869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Feld kommt in dieser Tabelle nur einmal v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486900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Feld kann in dieser Tabelle mehrmals vorkom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A75-38A8-4A25-B55E-DA43FA2D20AD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10C0C-154C-4D5D-9677-4127504336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4" dur="indefinite" restart="never" nodeType="tmRoot">
          <p:childTnLst>
            <p:seq>
              <p:cTn id="1985" dur="indefinite" nodeType="mainSeq">
                <p:childTnLst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4360" y="1484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zlichen Glückwuns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2133720"/>
            <a:ext cx="57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n ist Ihre Datenbank fertig und wartet darauf, von Ihnen genutzt zu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32846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l Erfolg bei den weiteren Arbei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4292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oachim Rö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58D-0FB7-4522-A21A-4921BED6A86A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0E889-7F31-445C-985D-D9DD4EE186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9" dur="indefinite" restart="never" nodeType="tmRoot">
          <p:childTnLst>
            <p:seq>
              <p:cTn id="2020" dur="indefinite" nodeType="mainSeq">
                <p:childTnLst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132000" y="1413000"/>
          <a:ext cx="4753080" cy="3593880"/>
        </p:xfrm>
        <a:graphic>
          <a:graphicData uri="http://schemas.openxmlformats.org/drawingml/2006/table">
            <a:tbl>
              <a:tblPr/>
              <a:tblGrid>
                <a:gridCol w="2219400"/>
                <a:gridCol w="2533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fttrags-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den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der Fi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uerberater Ternie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ß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nburger Str. 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tleitza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h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kel-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kel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cker HP 630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stellte Einhei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is pro Stü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611280" y="134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trag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268-E175-4CE4-9357-CF658FB103F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4D5DA-4F23-467E-918D-248E633BA4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134136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trollieren Sie die von Ihnen erfassten Aufträ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wenden Sie dafür die folgenden Schaltflä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32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ster Daten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777080" cy="459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4292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iger Daten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48000" y="4221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ächster Daten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465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zter Daten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76720" y="522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er Daten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843280" y="3068280"/>
            <a:ext cx="0" cy="4316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419640" y="3068640"/>
            <a:ext cx="0" cy="9367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867280" y="3068280"/>
            <a:ext cx="0" cy="136836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516720" y="3068280"/>
            <a:ext cx="0" cy="18716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164360" y="3068640"/>
            <a:ext cx="0" cy="24480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CD2-80F6-47CE-A701-D8388E18046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521FC-2D13-444F-A8E9-7CAB20700A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8:21:29Z</dcterms:created>
  <dc:creator>Röhl</dc:creator>
  <dc:description/>
  <dc:language>en-US</dc:language>
  <cp:lastModifiedBy>Joachim Röhl</cp:lastModifiedBy>
  <dcterms:modified xsi:type="dcterms:W3CDTF">2002-10-29T17:39:46Z</dcterms:modified>
  <cp:revision>81</cp:revision>
  <dc:subject/>
  <dc:title>PowerPoint-Präsentation</dc:title>
</cp:coreProperties>
</file>