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F0C-BA82-4A78-99B9-6EF1097E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C97-9270-4EC3-8F63-C48DFCC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1A2-0A46-4EC3-B22D-EDE8991D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525-872B-41DA-AC92-D48A1F76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A88-0C41-43F9-81CA-2E03C45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39B-9278-4A3F-A6C8-5149967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AEB-1DCA-4C34-87C2-CF81B2B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F5B-91E4-48C2-8A24-72E3F3F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CBE-5382-4CA2-949E-07FBDF5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B94-FF4F-48EE-8DD2-81D3C0A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B3B-A728-4E1E-9997-E22B7E7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AE6-9A38-4B93-90AE-3B1F864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0-11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achim Rö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BFF8-8108-4397-9201-15F8927CE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188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1371600"/>
            <a:ext cx="435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Vorschlag für ein alternatives Ausstattungs-konzept für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inen DV-R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981000" y="9144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</a:rPr>
              <a:t>Kosten des Ausgebil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75760" y="502920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azu die Kosten für di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1447920"/>
          <a:ext cx="536724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447920"/>
                    <a:ext cx="536724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5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895320" y="9144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eitere Überleg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Überprüfung und Optimierung der steuerlichen Überlegungen durch einen Steuerber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spräch mit den Ausbildungsbetrieben für die Übernahme der zusätzlichen Kos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aber: ein DV-Arbeitsplatz wird auch bei „konventioneller“ DV-Ausstattung benöti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nsparvertrag der Auszubildenden für die Übernahme des Notebook nach der Aus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ösung für die Frag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as geschieht bei der Auflösung des Ausbildungsvertrag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ntwicklung von Projekten und Unterrichtskonzepten für den Computereinsatz auch ausserhalb des speziellen DV-Unterr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988560" y="9144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ituation für die Fach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523880"/>
            <a:ext cx="7924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Kauf durch die Fachschüler (Studiere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ringerer „Steuerhebel“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Steuersatz ca. 20 - 30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ntwicklung von Projekten und Unterrichtskonzepten für den Computereinsatz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uch ausserhalb des originären DV-Unterr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032480" y="914400"/>
            <a:ext cx="58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ituation für die Angebotsschul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Gymnasiale Oberstuf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formationstechnische Assiste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86000"/>
            <a:ext cx="7696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Kauf durch die El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 der Regel kein steuerlicher Effekt, da die Kosten durch den Ausbildungsfreibetrag abgedeck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gfs. Kauf von Second-Hand-Syst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(beispielsweise von den IT-Schülern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oblem: keine Garantie, technisch überalt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ntwicklung von Projekten und Unterrichtskonzepten für den Computereinsatz auch ausserhalb des originären DV-Unterr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V-Ausstattungskonzep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zureichende Raumkapazitä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nge Investitionszyk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oher Installations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oher Betreuungs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terschiedliche Anforderungen aus den Bildungsgä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eigende Komplexität der Anwe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157320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V-Ausstattungskonzep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rufsschule: IT-Ber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gebotsschule: Gymnasiale Oberstuf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formationstechnischer As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eiterbildung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hschule für Wirtschaf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hrichtung Wirtschaftsinformati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hschule für Techni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hrichtung Informa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7800" y="157320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esonders hohe Anford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V-Ausstattungskonzep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872640" y="1573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ösungs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286000"/>
            <a:ext cx="7924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 gibt keine Universallö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ür unterschiedliche Anforderungsprofi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Bildungsgänge) müssen unterschiedlic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ösungen gesucht und gefund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teiligung v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Ausbildungsbetriebe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Schülern u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El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V-Ausstattungskonzep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990720"/>
            <a:ext cx="58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ösungsvorschlag beispielswei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ür die IT-Beru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otebook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336528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5562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Black"/>
              </a:rPr>
              <a:t>Einrichtung einer  Notebook-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812520" y="10666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eispielk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3830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reis 2.999,00 DM (Nov.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7924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nd: Nov.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zessor 1.2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beitsspeicher 256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,0 GB Festpla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fach DV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4" TFT-Bildsch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skettenlauf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B-A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0/100 MB Ethernet-A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953280" y="914400"/>
            <a:ext cx="36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er soll das bezahl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chul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rastruktur mit Lehrer-PC, Drucker, Beamer, Netz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362320"/>
            <a:ext cx="784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usbildungsbetrieb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tebook für die Zeit der Ausbil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im Betrieb, beim Kunden, in der Berufsschu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i der häuslichen Vor- und Nachbereitung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FA für drei Jahre, Steuersatz ca. 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86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uszubildender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oftware in Form von SSL-Lizen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Übernahme des Notebook nach Beendigung der Ausbildung zum Zeitwer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Beispiel: 800 DM + U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teuersatz: ca. 2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9144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Kostenüber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1676520"/>
          <a:ext cx="5962680" cy="2666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5962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5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inrichtung einer Notebook-Klass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027800" y="91440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Kosten des Ausbildungsbetrie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371600" y="1447920"/>
          <a:ext cx="5167440" cy="437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51674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6:47:59Z</dcterms:created>
  <dc:creator>Röhl</dc:creator>
  <dc:description/>
  <dc:language>en-US</dc:language>
  <cp:lastModifiedBy>Röhl</cp:lastModifiedBy>
  <dcterms:modified xsi:type="dcterms:W3CDTF">2001-11-23T20:12:09Z</dcterms:modified>
  <cp:revision>8</cp:revision>
  <dc:subject/>
  <dc:title>Kein Folientitel</dc:title>
</cp:coreProperties>
</file>