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285-1FEF-49A0-9917-FA20A0B2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24400"/>
            <a:ext cx="4572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B03-EC35-4156-9AAE-64451D09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02868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044-6146-4F5A-87B1-D2681194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32000" y="129528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777840" y="129528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2440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32000" y="352440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777840" y="352440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696-9A33-47D2-9FDC-D42601EF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A38-CD7E-4C69-9060-FCAA46D4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790-ED2D-47BB-A1A8-8C467953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FA2-813F-404B-A990-D01F9A5C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295-EF40-4660-AB03-9ED7D5F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AC7-D2EA-442C-BAD1-EF7E4C34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AF5-34DC-4C28-9124-11906D5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2868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68E-BF6D-4F17-8924-871FB56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24400"/>
            <a:ext cx="4572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E2D-080E-441E-B356-3DA1791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952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8-12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AB9E-28E0-4552-94B8-35C16BAC1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666880" y="380880"/>
            <a:ext cx="3353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Zugriff auf Dateie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im Betrieb verarbeiteten Daten werden in d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gel mittels magnetischer Datenträger gespeiche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Speicherung muß so organisiert sein, daß 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gesuchten Daten relat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i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deuti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egriffen werden kann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462-2F22-4585-ADE1-C9571A3A07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irekter Zug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folgende Abbildung zeigt den Datenbe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zeit ist die Personal-Nummer 004 nicht ver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entsprechende Platz auf dem Datenspeicher b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ei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r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8080" y="3276720"/>
          <a:ext cx="708660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76720"/>
                    <a:ext cx="7086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624-755D-4579-BD3A-FA005C80D1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 die logische Personal-Nr. der physikalis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atz-Nr. entsprich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2057400"/>
          <a:ext cx="6629400" cy="243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57400"/>
                    <a:ext cx="6629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14400" y="5105520"/>
            <a:ext cx="762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d der gewünschte Satz schnell gefun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-228600" y="3505320"/>
          <a:ext cx="8305920" cy="1218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05320"/>
                    <a:ext cx="8305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C07-B85A-4161-808C-183F90D21C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orteile des direkten Zugriff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sätze werden schnell geschrieben und gefu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s Suchmerkmal (Personal-Nr.) muß nicht gesondert gespeicher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achteile des direkten Zugriff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wendung von Speicherplatz (leere reservierte Plät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arianten sind möglich, bei denen die ph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dresse (Satz-Nr.) aus der logischen Ad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hier Pers-Nr.) erst berechnet werden muß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gfs. sind dann auch mehrere Zugriffe notwend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19E-4E8E-4D3A-B62C-7516FD7B0A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3505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bei werden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teile be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en mitein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knüpf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Datenbestand wi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für getrennt in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gentliche Datendat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72428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nd eine Indexdatei, d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n Suchbegriff sow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phys. Ad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nhalt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-Sequentielle Speich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86200" y="2209680"/>
          <a:ext cx="487692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209680"/>
                    <a:ext cx="487692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886200" y="4419720"/>
          <a:ext cx="2057400" cy="161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4419720"/>
                    <a:ext cx="20574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418-CDA2-46E3-9948-9D71BD1593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4267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Indexdatei wird nach der gewünschten Personal-Nr. durchsu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19720" y="1219320"/>
          <a:ext cx="2666880" cy="180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219320"/>
                    <a:ext cx="266688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2819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s die gewünschte Personal-Nr. gefunden 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19720" y="3200400"/>
          <a:ext cx="2286000" cy="520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3200400"/>
                    <a:ext cx="2286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39625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it der gefundenden Satz-N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6483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ann auf den gesamten Datensatz zugegriffen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876920" y="4038480"/>
          <a:ext cx="1523880" cy="1266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4038480"/>
                    <a:ext cx="15238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38280" y="5715000"/>
          <a:ext cx="5486400" cy="4874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5715000"/>
                    <a:ext cx="5486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11C-D13E-4ECF-A208-391F940CD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Suche nach dem gewünschen Datensatz erfol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zwei Sch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57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e in der Indexdatei nach dem Schlüsselbe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43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auf den Datensatz entsprechend dem Satzschlüs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733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 die Indexdatei relativ klein ist, kann sie ggf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omplett im (schnellen) Arbeitsspeicher gehal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rden. Die wiederholten zeitraubenden Zugriffe 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n externen Speicher werden erheblich reduzi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ßerdem werden schnelle Algorithmen für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che verwend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375-8676-4970-BBB0-82FEB742A6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lgende Abbildung zeigt die Mitarbeiterd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Es wird der Datensatz des  Mitarbeiters mit der 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alisto MT"/>
              </a:rPr>
              <a:t>00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enöti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262400" y="3343320"/>
          <a:ext cx="619200" cy="17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2400" y="3343320"/>
                    <a:ext cx="61920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838080" y="3352680"/>
          <a:ext cx="7467840" cy="2743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352680"/>
                    <a:ext cx="7467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2B3-99D4-4E73-943B-6E8B5AEBA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Sequentielles Suc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der Anfangszeit der Computer wurden die 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ochk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ochstrei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gnetbänd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peichert. Diese Daten mußten nachein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Sequenz) durchsucht werden, bis der gewünsch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satz gefunden wurde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25C-624E-4D89-BC54-287B0A31D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ers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2286000"/>
          <a:ext cx="7619760" cy="318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761976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002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Übereinstimmu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848-1EF3-4AA9-B946-4C8FBBDA0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zwei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Übereinstimmu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2362320"/>
          <a:ext cx="7543800" cy="321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362320"/>
                    <a:ext cx="7543800" cy="32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405-D8BC-4049-8AD2-0C1B13014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1371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drit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2286000"/>
          <a:ext cx="7467840" cy="32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0"/>
                    <a:ext cx="746784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Übereinstimmu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9A5-5346-4680-B81D-DB63F8172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1371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vier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2209680"/>
          <a:ext cx="7543800" cy="334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09680"/>
                    <a:ext cx="754380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3333cc"/>
                </a:solidFill>
                <a:latin typeface="Times New Roman"/>
              </a:rPr>
              <a:t>Bin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62A-2F39-445D-A4FD-D0B4FBEA2C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 Zahl der Zugriffe beim sequentiellen Suchen errechnet sich nach der Formel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zahl der Datensätze /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886200"/>
            <a:ext cx="7010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sequentielle Zugriff ist also nur geeignet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für kleinere Datenbeständ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für Datenbestände, die grundsätzlich Satz für 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sogenannten Batch-Betrieb verarbeite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E3D-A3F4-4101-86B3-BCAF66D5A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295280"/>
            <a:ext cx="79246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irekter Zugrif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Entwicklung von Magnetplatten ermöglichte 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rekt auf eindeutig zu bestimmende Segmente e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bestandes zuzugreif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olche Datenspeicher können natürlich 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quentiell durchsucht werd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Berechnung der genauen Adresse auf 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speicher wird vom System übernom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ieladres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adresse der Datei + (Satznummer * Satzlä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314-C775-446E-8CA2-F3076963F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20:57:14Z</dcterms:created>
  <dc:creator>Verhuven &amp; Röhl GBR</dc:creator>
  <dc:description/>
  <dc:language>en-US</dc:language>
  <cp:lastModifiedBy>Verhuven &amp; Röhl GBR</cp:lastModifiedBy>
  <dcterms:modified xsi:type="dcterms:W3CDTF">1998-12-15T10:49:38Z</dcterms:modified>
  <cp:revision>7</cp:revision>
  <dc:subject/>
  <dc:title>Kein Folientitel</dc:title>
</cp:coreProperties>
</file>