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BED-9D2B-431E-90D2-1779F639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CF7-7034-4007-B4EB-FF7DFB47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CB0-F078-4E2A-9D7C-696512E1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414-D5E5-4D94-9215-7DCB3237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505-F153-4EB5-8734-A67911FF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362-F379-498B-A56F-CA1AB43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4B7-1879-49A9-B17F-E58CE7A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9DC-3009-4A50-99D0-3065BD2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ECF-1E33-4291-B26D-25781EB2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BA8-56E5-4426-81D9-10BE7CD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6B1-19A9-4A1B-B605-421B352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526-E4EE-4666-9E5A-E0293DD1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A840-E535-4811-BC13-1C7274D4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077320" cy="75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39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uerelement 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72360" y="333360"/>
            <a:ext cx="792360" cy="652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213372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uerele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st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1497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1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314172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3284640"/>
            <a:ext cx="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79280" y="494172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034-3129-403E-8B5E-04D558A8D9C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149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2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79280" y="3284640"/>
            <a:ext cx="331308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D29-2EA7-43ED-907B-0A3F792C4F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236000" y="2924280"/>
            <a:ext cx="64908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14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3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79640" y="3284640"/>
            <a:ext cx="669600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1253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.Idem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8028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6F0-D96B-451B-BB6F-32D1F2220AC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84720" y="2133720"/>
            <a:ext cx="1081080" cy="1728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14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4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79640" y="3284640"/>
            <a:ext cx="424800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62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728-6805-4DA9-9101-D4CE68E72FF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95640" y="2924280"/>
            <a:ext cx="93636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2924280"/>
            <a:ext cx="647640" cy="433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14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5.Text = Feld(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index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979280" y="3357720"/>
            <a:ext cx="360360" cy="15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B75-A987-4180-B50F-D10095D3162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1773360"/>
            <a:ext cx="59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offe, das diese Darstellung dazu beiträgt, mit dem Steuerelem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box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arbe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A40-1C81-47D8-A909-120A77A98BD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Listenfeld-Steuerelement (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zeigt eine Liste mit Elementen an, aus der der Benutzer ein oder mehrere Elemente auswählen kan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die Anzahl der Elemente größer ist als die Anzahl der Elemente, die dargestellt werden können, wird automatisch eine Bildlaufleiste zum Listenfeld-Steuerelement hinzugefü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kein Element ausgewählt ist, hat d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Eigenschaft den Wert -1. Das erste Element in der Liste hat 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Wert 0, und der Wert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Cou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Eigenschaft ist immer um eins höher als der größt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W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n Metho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dIt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moveIt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önnen Sie Elemente in einem Listenfeld-Steuerelement hinzufügen oder löschen. Setzen Sie die Eigenschaft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Cou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mit ein Benutzer auf die Elemente des Listenfeldes zugreifen kann. Alternativ können Sie Elemente zu der Liste hinzufügen, indem Sie zur Entwurfszeit d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Eigenschaft verw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D6E-ED98-4E8C-A448-48AE5E4061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413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sit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Daten eines Feldes sollen über ein Listenfeld gesucht und angezeigt wer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6408720" cy="33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466-1BC6-4D23-905C-88EED0D8681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2DF-D099-44D4-A9F1-C0629DB7DF7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A03-869A-4E4E-A619-55894BBB09F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F31-3CF1-4AF1-857F-6E90211181A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764-1A07-4A8A-8A11-C8F29DDC27F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0C7-3ACD-4554-AA92-7A52C423F34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2349360"/>
            <a:ext cx="352728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773360"/>
          <a:ext cx="3552840" cy="29746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5960"/>
                <a:gridCol w="888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9528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157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ehl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16360" y="1773360"/>
          <a:ext cx="1800360" cy="576000"/>
        </p:xfrm>
        <a:graphic>
          <a:graphicData uri="http://schemas.openxmlformats.org/drawingml/2006/table">
            <a:tbl>
              <a:tblPr/>
              <a:tblGrid>
                <a:gridCol w="792360"/>
                <a:gridCol w="100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16360" y="2421000"/>
          <a:ext cx="1800000" cy="503280"/>
        </p:xfrm>
        <a:graphic>
          <a:graphicData uri="http://schemas.openxmlformats.org/drawingml/2006/table">
            <a:tbl>
              <a:tblPr/>
              <a:tblGrid>
                <a:gridCol w="825840"/>
                <a:gridCol w="9741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877080" y="24922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249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78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78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(Zaehler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1.Item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77080" y="1773360"/>
          <a:ext cx="1800360" cy="576000"/>
        </p:xfrm>
        <a:graphic>
          <a:graphicData uri="http://schemas.openxmlformats.org/drawingml/2006/table">
            <a:tbl>
              <a:tblPr/>
              <a:tblGrid>
                <a:gridCol w="792360"/>
                <a:gridCol w="100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716360" y="422100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Data(List1.New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2492280"/>
          <a:ext cx="1800000" cy="503280"/>
        </p:xfrm>
        <a:graphic>
          <a:graphicData uri="http://schemas.openxmlformats.org/drawingml/2006/table">
            <a:tbl>
              <a:tblPr/>
              <a:tblGrid>
                <a:gridCol w="825840"/>
                <a:gridCol w="9741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948360" y="256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40720" y="249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7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(Zaehler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2421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421000"/>
            <a:ext cx="863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0F2-5B47-46F2-9020-A96571E80EE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9:06:01Z</dcterms:created>
  <dc:creator>Joachim Röhl</dc:creator>
  <dc:description/>
  <dc:language>en-US</dc:language>
  <cp:lastModifiedBy>Joachim Röhl</cp:lastModifiedBy>
  <dcterms:modified xsi:type="dcterms:W3CDTF">2002-11-21T10:16:29Z</dcterms:modified>
  <cp:revision>5</cp:revision>
  <dc:subject/>
  <dc:title>Steuerelement  Listbox</dc:title>
</cp:coreProperties>
</file>