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embeddings/oleObject4.xlsx" ContentType="application/vnd.openxmlformats-officedocument.spreadsheetml.shee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3717D-BD60-4DA6-B13F-EF7B83CCF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4572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524400"/>
            <a:ext cx="4572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92C91-7DE2-4C8C-9EB4-BF348D4FC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2309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28680" y="1295280"/>
            <a:ext cx="22309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524400"/>
            <a:ext cx="22309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028680" y="3524400"/>
            <a:ext cx="22309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F2E55-CD48-4FA1-99C6-3A7E61273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14720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232000" y="1295280"/>
            <a:ext cx="14720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3777840" y="1295280"/>
            <a:ext cx="14720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524400"/>
            <a:ext cx="14720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232000" y="3524400"/>
            <a:ext cx="14720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3777840" y="3524400"/>
            <a:ext cx="14720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98B1E-ECA7-4C2E-A99F-A733BD7F3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4572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FB11C-C5CB-4820-9917-806F79525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4572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A9DB1-ABCA-4D56-9986-D36611470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2309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3028680" y="1295280"/>
            <a:ext cx="22309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386D8-5A71-413B-AE72-29992173C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B2CC1-DA6B-4B31-A2BB-E7708FC6A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A1C7A-C704-49EE-9840-13FAEF68D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2309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028680" y="1295280"/>
            <a:ext cx="22309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524400"/>
            <a:ext cx="22309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406D4-D3D9-4974-B90A-176FB1086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2309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028680" y="1295280"/>
            <a:ext cx="22309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28680" y="3524400"/>
            <a:ext cx="22309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1A2DD-278D-4372-90C4-FA89DF680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2309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028680" y="1295280"/>
            <a:ext cx="22309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524400"/>
            <a:ext cx="4572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4326F-F63C-4122-BDD6-A00241566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295280"/>
            <a:ext cx="4572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998-12-1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58E74-160C-4EA0-BD93-4012E92F0A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 txBox="1"/>
          <p:nvPr/>
        </p:nvSpPr>
        <p:spPr>
          <a:xfrm>
            <a:off x="2666880" y="380880"/>
            <a:ext cx="335304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Playbill"/>
              </a:rPr>
              <a:t>Zugriff auf Dateien</a:t>
            </a:r>
            <a:endParaRPr b="1" lang="en-US" sz="4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Playbill"/>
              <a:ea typeface="Playbil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0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1.wmf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2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3.wmf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4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5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6.wmf"/><Relationship Id="rId8" Type="http://schemas.openxmlformats.org/officeDocument/2006/relationships/package" Target="../embeddings/oleObject4.xlsx"/><Relationship Id="rId9" Type="http://schemas.openxmlformats.org/officeDocument/2006/relationships/image" Target="../media/image17.wmf"/><Relationship Id="rId10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3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685440" y="1294920"/>
            <a:ext cx="74674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Die im Betrieb verarbeiteten Daten werden in der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Regel mittels magnetischer Datenträger gespeicher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Die Speicherung muß so organisiert sein, daß au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die gesuchten Daten relati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schne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sic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eindeuti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zugegriffen werden kann.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2E0A0-3A4D-480C-8EF6-FEA57A55089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685440" y="1295280"/>
            <a:ext cx="80010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Times New Roman"/>
              </a:rPr>
              <a:t>Direkter Zugrif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Die folgende Abbildung zeigt den Datenbestan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Derzeit ist die Personal-Nummer 004 nicht vergeb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Der entsprechende Platz auf dem Datenspeicher b</a:t>
            </a: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lei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fre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838080" y="3276720"/>
          <a:ext cx="7086600" cy="2971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38080" y="3276720"/>
                    <a:ext cx="708660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0DE9C-8B6C-41E0-99B8-05EAABE07B2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762120" y="1219320"/>
            <a:ext cx="76197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Da die logische Personal-Nr. der physikalisch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Satz-Nr. entspricht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1219320" y="2057400"/>
          <a:ext cx="6629400" cy="24382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19320" y="2057400"/>
                    <a:ext cx="6629400" cy="24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"/>
          <p:cNvSpPr/>
          <p:nvPr/>
        </p:nvSpPr>
        <p:spPr>
          <a:xfrm>
            <a:off x="914400" y="5105520"/>
            <a:ext cx="7620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rd der gewünschte Satz schnell gefund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-228600" y="3505320"/>
          <a:ext cx="8305920" cy="12189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-228600" y="3505320"/>
                    <a:ext cx="8305920" cy="121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4C2CD-5C09-42DE-93A8-2F8C309C293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685800" y="1295280"/>
            <a:ext cx="73915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Vorteile des direkten Zugriff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Datensätze werden schnell geschrieben und gefund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das Suchmerkmal (Personal-Nr.) muß nicht gesondert gespeichert werd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Nachteile des direkten Zugriff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Verschwendung von Speicherplatz (leere reservierte Plätz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Varianten sind möglich, bei denen die phy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Adresse (Satz-Nr.) aus der logischen Adres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(hier Pers-Nr.) erst berechnet werden muß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Ggfs. sind dann auch mehrere Zugriffe notwendi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102AF-40C7-445D-AD83-3402A6D9595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380520" y="2133720"/>
            <a:ext cx="35053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erbei werden d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orteile bei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rianten miteinan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rknüpf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r Datenbestand wir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erfür getrennt in d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igentliche Datendatei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04920" y="4724280"/>
            <a:ext cx="38862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und eine Indexdatei, di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den Suchbegriff sow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die phys. Adres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beinhalte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5800" y="1295280"/>
            <a:ext cx="76201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dex-Sequentielle Speicheru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3886200" y="2209680"/>
          <a:ext cx="4876920" cy="16304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86200" y="2209680"/>
                    <a:ext cx="4876920" cy="163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" name=""/>
          <p:cNvGraphicFramePr/>
          <p:nvPr/>
        </p:nvGraphicFramePr>
        <p:xfrm>
          <a:off x="3886200" y="4419720"/>
          <a:ext cx="2057400" cy="161424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886200" y="4419720"/>
                    <a:ext cx="2057400" cy="161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2D093-0CA3-45A4-9945-DFE0A35522D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380880" y="1218960"/>
            <a:ext cx="426744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Die Indexdatei wird nach der gewünschten Personal-Nr. durchsuc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4419720" y="1219320"/>
          <a:ext cx="2666880" cy="18079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419720" y="1219320"/>
                    <a:ext cx="2666880" cy="180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" name=""/>
          <p:cNvSpPr/>
          <p:nvPr/>
        </p:nvSpPr>
        <p:spPr>
          <a:xfrm>
            <a:off x="457200" y="2819520"/>
            <a:ext cx="38098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bis die gewünschte Personal-Nr. gefunden is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4419720" y="3200400"/>
          <a:ext cx="2286000" cy="5205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19720" y="3200400"/>
                    <a:ext cx="2286000" cy="52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"/>
          <p:cNvSpPr/>
          <p:nvPr/>
        </p:nvSpPr>
        <p:spPr>
          <a:xfrm>
            <a:off x="457200" y="3962520"/>
            <a:ext cx="3809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Mit der gefundenden Satz-N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57200" y="4648320"/>
            <a:ext cx="38098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kann auf den gesamten Datensatz zugegriffen werd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4876920" y="4038480"/>
          <a:ext cx="1523880" cy="126684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876920" y="4038480"/>
                    <a:ext cx="1523880" cy="12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6" name=""/>
          <p:cNvGraphicFramePr/>
          <p:nvPr/>
        </p:nvGraphicFramePr>
        <p:xfrm>
          <a:off x="2438280" y="5715000"/>
          <a:ext cx="5486400" cy="487440"/>
        </p:xfrm>
        <a:graphic>
          <a:graphicData uri="http://schemas.openxmlformats.org/presentationml/2006/ole">
            <p:oleObj progId="Excel.Sheet.12" r:id="rId8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438280" y="5715000"/>
                    <a:ext cx="5486400" cy="48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A45E0-9B69-42F1-9C7A-60393408AA5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6936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Die Suche nach dem gewünschen Datensatz erfolg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936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in zwei Schritt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85800" y="205740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80880" indent="-38088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che in der Indexdatei nach dem Schlüsselbegrif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274320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72960" indent="-372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Zugriff auf den Datensatz entsprechend dem Satzschlüss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09480" y="3733920"/>
            <a:ext cx="77724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76920" indent="-37692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Da die Indexdatei relativ klein ist, kann sie ggf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76920" indent="-37692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komplett im (schnellen) Arbeitsspeicher gehalt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76920" indent="-37692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werden. Die wiederholten zeitraubenden Zugriffe au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76920" indent="-37692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den externen Speicher werden erheblich reduzier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76920" indent="-37692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Außerdem werden schnelle Algorithmen für d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76920" indent="-37692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Suche verwende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EE5BB-7BC5-4992-96D5-8AFE958D53B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685440" y="1295280"/>
            <a:ext cx="7543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eispiel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Folgende Abbildung zeigt die Mitarbeiterdat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Es wird der Datensatz des  Mitarbeiters mit der Num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	</a:t>
            </a:r>
            <a:r>
              <a:rPr b="1" lang="en-US" sz="2800" spc="-1" strike="noStrike">
                <a:solidFill>
                  <a:srgbClr val="3333cc"/>
                </a:solidFill>
                <a:latin typeface="Calisto MT"/>
              </a:rPr>
              <a:t>005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benötig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4262400" y="3343320"/>
          <a:ext cx="619200" cy="1713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262400" y="3343320"/>
                    <a:ext cx="619200" cy="17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"/>
          <p:cNvGraphicFramePr/>
          <p:nvPr/>
        </p:nvGraphicFramePr>
        <p:xfrm>
          <a:off x="838080" y="3352680"/>
          <a:ext cx="7467840" cy="274320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8080" y="3352680"/>
                    <a:ext cx="7467840" cy="27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065F5-8B1E-4DDD-9BD9-BCCD9CFB2E3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685440" y="1295280"/>
            <a:ext cx="79246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Times New Roman"/>
              </a:rPr>
              <a:t>Sequentielles Such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In der Anfangszeit der Computer wurden die Dat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auf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Lochkart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Lochstreif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Magnetbänder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gespeichert. Diese Daten mußten nacheinan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(Sequenz) durchsucht werden, bis der gewünschte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Datensatz gefunden wurde 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5AE9E-2375-41BF-A5AC-37FE91C715D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1371600" y="137124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r erste Satz des Datenbestandes wird mit dem Suchbegriff verglich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533520" y="2286000"/>
          <a:ext cx="7619760" cy="31827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520" y="2286000"/>
                    <a:ext cx="7619760" cy="31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600200" y="5562720"/>
            <a:ext cx="6400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rgebnis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kein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Übereinstimmu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D06CC-9DBA-42E0-9E20-1AE0848011A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71600" y="137124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r zweite Satz des Datenbestandes wird mit dem Suchbegriff verglich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5715000"/>
            <a:ext cx="6400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rgebnis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kein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Übereinstimmu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609480" y="2362320"/>
          <a:ext cx="7543800" cy="32144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2362320"/>
                    <a:ext cx="7543800" cy="32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C9034-8DE6-4812-9FAC-5136A5618A8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1371600"/>
            <a:ext cx="6400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r dritte Satz des Datenbestandes wird mit dem Suchbegriff verglich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609480" y="2286000"/>
          <a:ext cx="7467840" cy="32796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2286000"/>
                    <a:ext cx="7467840" cy="327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"/>
          <p:cNvSpPr/>
          <p:nvPr/>
        </p:nvSpPr>
        <p:spPr>
          <a:xfrm>
            <a:off x="1600200" y="5715000"/>
            <a:ext cx="6400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rgebnis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kein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Übereinstimmu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D917C-7757-4155-86C4-480E8B6D305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371600" y="1371600"/>
            <a:ext cx="6400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r vierte Satz des Datenbestandes wird mit dem Suchbegriff verglich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457200" y="2209680"/>
          <a:ext cx="7543800" cy="33400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2209680"/>
                    <a:ext cx="7543800" cy="334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"/>
          <p:cNvSpPr/>
          <p:nvPr/>
        </p:nvSpPr>
        <p:spPr>
          <a:xfrm>
            <a:off x="1600200" y="5715000"/>
            <a:ext cx="6400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Ergebnis:</a:t>
            </a: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de-DE" sz="3200" spc="-1" strike="noStrike">
                <a:solidFill>
                  <a:srgbClr val="3333cc"/>
                </a:solidFill>
                <a:latin typeface="Times New Roman"/>
              </a:rPr>
              <a:t>Bing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B837F-96C7-42EC-BCE2-CDC95D41DDE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e Zahl der Zugriffe beim sequentiellen Suchen errechnet sich nach der Formel: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zahl der Datensätze /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990720" y="3886200"/>
            <a:ext cx="701028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85800" y="3962520"/>
            <a:ext cx="76201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Der sequentielle Zugriff ist also nur geeignet: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- für kleinere Datenbestände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- für Datenbestände, die grundsätzlich Satz für Sat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im sogenannten Batch-Betrieb verarbeitet werd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60A11-EFF9-4072-BC2D-AC761DB140B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685800" y="1295280"/>
            <a:ext cx="792468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Times New Roman"/>
              </a:rPr>
              <a:t>Direkter Zugriff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Die Entwicklung von Magnetplatten ermöglichte e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direkt auf eindeutig zu bestimmende Segmente ein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Datenbestandes zuzugreife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Solche Datenspeicher können natürlich au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sequentiell durchsucht werde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Die Berechnung der genauen Adresse auf d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Datenspeicher wird vom System übernomm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Zieladresse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Startadresse der Datei + (Satznummer * Satzläng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F0EAA-88CE-41BA-AF84-4E6CBC27B1B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2-14T20:57:14Z</dcterms:created>
  <dc:creator>Verhuven &amp; Röhl GBR</dc:creator>
  <dc:description/>
  <dc:language>en-US</dc:language>
  <cp:lastModifiedBy>Verhuven &amp; Röhl GBR</cp:lastModifiedBy>
  <dcterms:modified xsi:type="dcterms:W3CDTF">1998-12-15T10:49:38Z</dcterms:modified>
  <cp:revision>7</cp:revision>
  <dc:subject/>
  <dc:title>Kein Folientitel</dc:title>
</cp:coreProperties>
</file>