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png" ContentType="image/png"/>
  <Override PartName="/ppt/media/image20.jpeg" ContentType="image/jpeg"/>
  <Override PartName="/ppt/media/image19.gif" ContentType="image/gif"/>
  <Override PartName="/ppt/media/image16.jpeg" ContentType="image/jpeg"/>
  <Override PartName="/ppt/media/image35.wmf" ContentType="image/x-wmf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8.png" ContentType="image/png"/>
  <Override PartName="/ppt/media/image6.jpeg" ContentType="image/jpeg"/>
  <Override PartName="/ppt/media/image28.wmf" ContentType="image/x-wmf"/>
  <Override PartName="/ppt/media/image7.jpeg" ContentType="image/jpeg"/>
  <Override PartName="/ppt/media/image31.wmf" ContentType="image/x-wmf"/>
  <Override PartName="/ppt/media/image17.jpeg" ContentType="image/jpeg"/>
  <Override PartName="/ppt/media/image32.wmf" ContentType="image/x-wmf"/>
  <Override PartName="/ppt/media/image33.png" ContentType="image/png"/>
  <Override PartName="/ppt/media/image34.wmf" ContentType="image/x-wmf"/>
  <Override PartName="/ppt/media/image36.png" ContentType="image/png"/>
  <Override PartName="/ppt/media/image13.png" ContentType="image/png"/>
  <Override PartName="/ppt/media/image37.png" ContentType="image/png"/>
  <Override PartName="/ppt/media/image10.jpeg" ContentType="image/jpeg"/>
  <Override PartName="/ppt/media/image11.wmf" ContentType="image/x-wmf"/>
  <Override PartName="/ppt/media/image5.jpeg" ContentType="image/jpeg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61A-DC95-4FE3-A489-77B47224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F27-E57E-4E67-869B-18DCFAB4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9B2-C624-46EE-AAAA-E0C7BA7A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28A-C402-4158-8449-0D3EC07F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52F-5A31-4EED-BCDC-E4B20F3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9D5-857C-44DE-AE95-F0C50642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32D-AFB2-4970-8797-D2E9049C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C83-6A6F-4415-B6F4-C2801DE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030-362D-4DB2-A328-39A95DD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BD1-23B1-443A-8B03-2FB6539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9A2-D3DD-410B-930B-4B562E7C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E56-670A-497A-AB2D-5C0D045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6FE-AA64-4DC6-8572-EA6102DCBE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D839-9F5B-4AD9-B612-4811A37E4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685800" cy="5867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990720"/>
            <a:ext cx="8458200" cy="152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380880" y="152280"/>
            <a:ext cx="468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Grundlagen der DV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iamarkt.de/webapp/commerce/command/ProductDisplay?cnr=8822&amp;cna=PCs&amp;prmenbr=3016&amp;prrfnbr=4722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-bielefeld.de/_vti_bin/shtml.dll/homepage/lernfeld/wi/grundlag/kap4/tastatur01.htm/map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SK082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440320" cy="3362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Das Innenleben eines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otherboard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chnitt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lots für Steck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Rahmen fü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Festpl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isk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Netzt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ERIF064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706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91BBF-E4B5-4C5C-A637-881BD5AF90A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666520" y="12193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latine/Motherboard 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eckpl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kro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schlüssen fü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terne Gerä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28616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936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352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936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oard02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2211480" cy="260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6280" y="210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oard01" descr=""/>
          <p:cNvPicPr/>
          <p:nvPr/>
        </p:nvPicPr>
        <p:blipFill>
          <a:blip r:embed="rId4"/>
          <a:stretch/>
        </p:blipFill>
        <p:spPr>
          <a:xfrm>
            <a:off x="685800" y="2743200"/>
            <a:ext cx="2076480" cy="18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6EE73-EC56-4B8D-A8A7-4FDD78D5CF60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oard03" descr="S1832DL Tiger 100"/>
          <p:cNvPicPr/>
          <p:nvPr/>
        </p:nvPicPr>
        <p:blipFill>
          <a:blip r:embed="rId2"/>
          <a:stretch/>
        </p:blipFill>
        <p:spPr>
          <a:xfrm>
            <a:off x="762120" y="1219320"/>
            <a:ext cx="7315200" cy="50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5084A-DF3F-485B-AD78-4190BC84DF6E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Mikroprozessor (Zentraleinh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besteht a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Rechenwerk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Im  </a:t>
            </a:r>
            <a:r>
              <a:rPr b="1" lang="de-DE" sz="2000" spc="-1" strike="noStrike">
                <a:solidFill>
                  <a:srgbClr val="800000"/>
                </a:solidFill>
                <a:latin typeface="Arial"/>
              </a:rPr>
              <a:t>Rechenwerk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werden alle mathematischen und logischen Operationen (rechnen, vergleichen, verknüpfen, sortieren) ausgeführt. Dort findet die eigentliche Verarbeitung der Daten st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teuerwerk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Das </a:t>
            </a:r>
            <a:r>
              <a:rPr b="1" lang="de-DE" sz="2000" spc="-1" strike="noStrike">
                <a:solidFill>
                  <a:srgbClr val="800000"/>
                </a:solidFill>
                <a:latin typeface="Arial"/>
              </a:rPr>
              <a:t>Steuerwerk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hat die Aufgabe, das Zusammenspiel von Rechenwerk und Hauptspeicher zu steuern. Es entschlüsselt die Programmbefehle, löst die notwendigen Maschinenoperationen aus und überwacht die Ausführung der Befehle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(Cache)Speicher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chneller Zwischenspeicher 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für Daten und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Hersteller: Intel, AMD, Cyr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28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ntiumii" descr=""/>
          <p:cNvPicPr/>
          <p:nvPr/>
        </p:nvPicPr>
        <p:blipFill>
          <a:blip r:embed="rId2"/>
          <a:stretch/>
        </p:blipFill>
        <p:spPr>
          <a:xfrm>
            <a:off x="6743880" y="4419720"/>
            <a:ext cx="2400120" cy="180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32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thloncart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2362320" cy="1490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00" y="27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k6iii134" descr="k6iii134.gif (11553 Byte)"/>
          <p:cNvPicPr/>
          <p:nvPr/>
        </p:nvPicPr>
        <p:blipFill>
          <a:blip r:embed="rId4"/>
          <a:stretch/>
        </p:blipFill>
        <p:spPr>
          <a:xfrm>
            <a:off x="7361280" y="0"/>
            <a:ext cx="1782720" cy="1628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100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x2" descr=""/>
          <p:cNvPicPr/>
          <p:nvPr/>
        </p:nvPicPr>
        <p:blipFill>
          <a:blip r:embed="rId5"/>
          <a:stretch/>
        </p:blipFill>
        <p:spPr>
          <a:xfrm>
            <a:off x="5830920" y="-12600"/>
            <a:ext cx="1531800" cy="123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CF0AF-38E8-4841-810D-24295CFDDD6D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aktfreque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ßeinheit: MHz (Mega Hertz = Milli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ktgeber sendet über Datenleitungen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ale an alle Bestandteile und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ynchronisiert die Geschwind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stimmt wesentlich, aber nicht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sschließlich, die Leistungsfähigkeit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s Computersystems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auteile (Prozessor, Mainboard, Grafikkarte)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rbeiten mit unterschiedlichen Taktgeschwind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USPR036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104920" cy="25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37B8-1C5F-4F6E-A99E-B24C3A407C9A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teckplätze (Sl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Kontaktleisten, die die jeweilige Karte in das Bussystem integrieren und mit Betriebsstrom versor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tellen den Datenfluß zwischen Motherboard 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und Karte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ERIF027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1676520" cy="1181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24480" y="3200400"/>
            <a:ext cx="1760760" cy="1212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hnitt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Übergabe von Daten an periphere Gerä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st eingebaut sind üblicher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 serielle Schnitt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 parallele Schnittst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2E80-9694-4E1F-AA9B-46B3DD6ED55F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us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euerbus     überträgt die Steuersignale</a:t>
            </a:r>
            <a:br>
              <a:rPr sz="2400"/>
            </a:b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atenbus      überträgt die Daten</a:t>
            </a:r>
            <a:br>
              <a:rPr sz="2400"/>
            </a:b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ressbus    sorgt für die richtige Adressierung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           der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6019560" cy="28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5603D-718E-4E1E-A69D-9B2DA218357E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856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zentraleinh01" descr=""/>
          <p:cNvPicPr/>
          <p:nvPr/>
        </p:nvPicPr>
        <p:blipFill>
          <a:blip r:embed="rId3"/>
          <a:stretch/>
        </p:blipFill>
        <p:spPr>
          <a:xfrm>
            <a:off x="2133720" y="0"/>
            <a:ext cx="4136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E40B7-B665-4539-9BBE-6469A4F1FE34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Interne Zahlendarstel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er Computer arbeitet intern mit elektronischen Impulsen, die mit der Wertigkeit 0 und 1 dargestellt werden. 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ie werden als BIT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inary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igit) bezeich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8 Bits bilden 1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0988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Maßang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Kilobyte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1.024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egabyte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1.024 Kilobyte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1.048.576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Gigabyte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1.024 Megabyte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1.048.576 Kilo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323E8-0FAF-42E3-8D75-8B8F9E5FC6A0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Festwertspeicher (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ROM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=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ad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nly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m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beinhaltet fest installierte Programm (Urla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werden vom Computerhersteller eingeb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Varianten: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ROM (programmierbares ROM)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PROM (löschbares PR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Zuständig für die Funktionskontrolle nach dem Einschalten des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nthält Start-Routine zum Booten des Betrieb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nthält das BIOS für die Ein- / Ausgabesteuerung (Basic Input Output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OMPU021" descr=""/>
          <p:cNvPicPr/>
          <p:nvPr/>
        </p:nvPicPr>
        <p:blipFill>
          <a:blip r:embed="rId2"/>
          <a:stretch/>
        </p:blipFill>
        <p:spPr>
          <a:xfrm>
            <a:off x="7315200" y="5638680"/>
            <a:ext cx="1468440" cy="8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89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C54C3-CC40-43E8-B0AF-F20AECD813B0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80"/>
                </a:solidFill>
                <a:latin typeface="Arial"/>
              </a:rPr>
              <a:t>Ein gutes Computerange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INTEL Pentium IV 1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512 Kbyt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Markenmainboard mit 5x PCI, AGP(4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256 MB S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Schnittstellen: 2 seriell, 1 parallel, 2 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Seagate Plattenlaufwerk 40 Gby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16 Bit 3D-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3,5 “ Diskettenlauf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Grafikkarte NVIDIA GeForce 2 MX mit 64 MB und TV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Qualitätstastatur + ergonomische Scroll M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Schneller 12x10x32 Brenner mit BURN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12x/40x DVD- Lauf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Gehäuse/Netzteil: 300 W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482,24 Eu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300004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1295280"/>
            <a:ext cx="245592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7A658-2217-4D9D-ABC5-E231CA9BDA69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chreiblesespeicher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RAM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andom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ccess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Aufbewahrung von Daten und Progr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peicherinhalt geht bei Stromausfall bzw. beim Ausschalten verl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erzeit übliche Speicherkapazitäten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64 MB (Megabyte)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128 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25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viele Computer verfügen zusätzlich über einen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Cache-Speicher zur Beschleunigung des Datenzugriffs des Proz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9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sdimm" descr="sdimm.jpg (9274 Byte)"/>
          <p:cNvPicPr/>
          <p:nvPr/>
        </p:nvPicPr>
        <p:blipFill>
          <a:blip r:embed="rId2"/>
          <a:stretch/>
        </p:blipFill>
        <p:spPr>
          <a:xfrm>
            <a:off x="5638680" y="3200400"/>
            <a:ext cx="32004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33AEE-8C4D-4D8E-B44F-066D65BAAC8E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terne Datenspei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skettenlau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andardmäßig ent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peicherkapazität 1,4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stplattenlau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enen der Aufbewahrung von Programmen und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riterien: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Speicherkapazität (GB)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Transferrate (MB je Sekun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iswerter Massenspeicher (ca. 650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ann mittlerweile auch privat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rzeugt werden (Bre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D001" descr=""/>
          <p:cNvPicPr/>
          <p:nvPr/>
        </p:nvPicPr>
        <p:blipFill>
          <a:blip r:embed="rId2"/>
          <a:stretch/>
        </p:blipFill>
        <p:spPr>
          <a:xfrm>
            <a:off x="7238880" y="4876920"/>
            <a:ext cx="1492200" cy="1407960"/>
          </a:xfrm>
          <a:prstGeom prst="rect">
            <a:avLst/>
          </a:prstGeom>
          <a:ln w="0">
            <a:noFill/>
          </a:ln>
        </p:spPr>
      </p:pic>
      <p:pic>
        <p:nvPicPr>
          <p:cNvPr id="108" name="DISK009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1052640" cy="10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2EBFD-BC97-48D8-86EC-2C8CCE384031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rafikk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e steuert die Ausgabe der Daten über den Bildsch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in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igenen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igenen Arbeitsspe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rzeitiger Standard: A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OMPU009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3838680" cy="258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4307040"/>
            <a:ext cx="3124440" cy="19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7589C-F168-4010-85C3-DC6874521E7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oundkarte und Lautsprecherbox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ound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dient zur Wiedergabe aktustischer 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rmöglichen mit entsprechender Software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die Aufnahme von Musikstücken und deren Be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bei einigen Computern bereits auf dem Mainboard install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ERIF065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3352680" cy="1930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56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utsprecherbox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nd bei vielen Monitoren bereits integr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CEA68-A5A4-4F4E-9D7B-E197F100513D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chluß an da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m die Möglichkeiten des Internets zu nutzen, muß der Computer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s Telefonnetz angeschloss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OMMU013" descr=""/>
          <p:cNvPicPr/>
          <p:nvPr/>
        </p:nvPicPr>
        <p:blipFill>
          <a:blip r:embed="rId2"/>
          <a:stretch/>
        </p:blipFill>
        <p:spPr>
          <a:xfrm>
            <a:off x="6172200" y="283536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22096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ISDN-K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6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verbindet den Computer mit dem vorhande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ISDN-Anschlu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6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chnelle Datenübertra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it 64 Kbit/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extern oder intern (Modem-Karte) zum Anschluß eines Computers an das herkömmliche (analoge) Telefon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6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Anschluß an die serielle Schnittstelle des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6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wandelt die digitalen Signale des Computer in für das Telefonnetz verständliche Signale um (modul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6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Geschwindigkeit bis 56 Kbit / Se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0A5EA-25CC-4ECB-9324-A1FEAC3EB301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oftw01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686280" cy="299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449568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indows 95/98/ME/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6DE22-B8EB-4FAB-9660-57084951D502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3429000"/>
            <a:ext cx="41148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Apothekenprogramme (Apobase, </a:t>
            </a:r>
            <a:br>
              <a:rPr sz="1600"/>
            </a:b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 Pharmatech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Programme für Arztpraxen (Albiswin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oftw02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924680" cy="2406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3429000"/>
            <a:ext cx="4343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Textverarbeitung (WORD, Wordst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Tabellenkalkulation EX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Datenbankprogramme (ACCESS, ,SQL7, </a:t>
            </a:r>
            <a:br>
              <a:rPr sz="1600"/>
            </a:b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  Oracle, MY-SQ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Graphik (CorelDraw, PhotoDraw, Adobe </a:t>
            </a:r>
            <a:br>
              <a:rPr sz="1600"/>
            </a:b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 Photo-Sh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Präsentation (Power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HTML (Frontpage, FrontPageExpress) 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49404-5F01-4B37-B7F7-B4135F426695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-Adre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981080"/>
            <a:ext cx="7391160" cy="41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rgoguide.dk/germ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guidof.rz.uni-mannheim.de/vorlesung/fhlu/grundlagen/tsld001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ni-potsdam.de/u/zeik/kurse/online/1/tsld001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signerin.de/PCKURS/LA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 http://www.uni-bielefeld.de/~rrsch/lernfeld/wi/grundlag/rahsandv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B4151-F0B3-434E-9240-7B632022C934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atth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0574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752480"/>
            <a:ext cx="7543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n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über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k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erung (ASCII, AN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86486-1AE5-4DCE-A845-12FF15DD2AEA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1400040"/>
            <a:ext cx="761976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Wußten Sie schon, daß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 Computer deshalb so schnell arbeiten, weil sie nich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denk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 es immer noch Leute geben soll, die bei Festplatt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zuerst an ein kaltes Buffet denk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 Laufwerke nicht zur körperlichen Ertüchtigung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Rechners nach schweren Aufgaben die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 es Leute gibt, die sich für ein Original halten, obwoh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ie nur eine Kopie si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 95% aller Computerprobleme vor dem Bildschi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i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EFA6A-3BB5-4736-8B95-5AF8E46BE6B3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Arial"/>
              </a:rPr>
              <a:t>D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17“ TFT-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Windows ME installiert und auf CD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Tintenstrahldrucker, 720 dpi, getrennte Farbpatronen (schwarz, farb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4D6A6-5A98-43C7-822B-BC3456142310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48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va01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86276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51831-A778-4C53-AE50-8EDB516E7BE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ipheriegerät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05120"/>
            <a:ext cx="845820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Eingabegerät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Ausgabegerät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Peripheri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Tastatu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Bildschirm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Diskettenlauf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us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Drucke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Festplatte (Magnetplatte)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canner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ikrofilm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CD-ROM/Bre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trich(Bar-)-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lotter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Optische Speicherplatte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Code-Lese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gnetband-kassetten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Klarschrift(OCR)-Lese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gnetband-speiche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rkierungsbeleg-lese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gnetschriftleser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mputer" descr=""/>
          <p:cNvPicPr/>
          <p:nvPr/>
        </p:nvPicPr>
        <p:blipFill>
          <a:blip r:embed="rId2"/>
          <a:stretch/>
        </p:blipFill>
        <p:spPr>
          <a:xfrm>
            <a:off x="6172200" y="4876920"/>
            <a:ext cx="2743200" cy="1528560"/>
          </a:xfrm>
          <a:prstGeom prst="rect">
            <a:avLst/>
          </a:prstGeom>
          <a:ln w="0">
            <a:noFill/>
          </a:ln>
        </p:spPr>
      </p:pic>
      <p:pic>
        <p:nvPicPr>
          <p:cNvPr id="55" name="Tastatur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228600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diskett" descr=""/>
          <p:cNvPicPr/>
          <p:nvPr/>
        </p:nvPicPr>
        <p:blipFill>
          <a:blip r:embed="rId4"/>
          <a:stretch/>
        </p:blipFill>
        <p:spPr>
          <a:xfrm>
            <a:off x="4000680" y="4876920"/>
            <a:ext cx="1143000" cy="137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54A5B-016E-462C-A355-2EE8476BA65F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astatur01" descr="tastatur01.gif (10892 Byte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828800"/>
            <a:ext cx="8458200" cy="384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82B01-4E16-4B05-89C4-A8D3E5568CFA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usgabe von 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ldsch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ichtigste Ausgabeeinheit des Computer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Kathodenstrahlröh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ößen: 15“, 17“, 19“, 21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bleme: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ringe) Strahlung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ativ hoher Platzverbrauch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ativ hoher Stromverbra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üssigkristallbildschirm (T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or allem bei Laptops eingese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och relativ te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orteile: klein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klares Bil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ildschirm01" descr="bildschirm01.jpg (19742 Byte)"/>
          <p:cNvPicPr/>
          <p:nvPr/>
        </p:nvPicPr>
        <p:blipFill>
          <a:blip r:embed="rId2"/>
          <a:stretch/>
        </p:blipFill>
        <p:spPr>
          <a:xfrm>
            <a:off x="4267080" y="4511520"/>
            <a:ext cx="461016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99C11-BE6F-41D5-8699-110268E4A451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Dru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Tintenstrahl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feine Tintenstrahltröpfchen gestalten das 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aßeinheit für die Auflösung ist dpi (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ots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er 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n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üblich sind mittlerweile Farbtintenstrahl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Vorteile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leise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preiswert 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(Anschaffungskosten vs laufende Kosten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RINT011" descr=""/>
          <p:cNvPicPr/>
          <p:nvPr/>
        </p:nvPicPr>
        <p:blipFill>
          <a:blip r:embed="rId2"/>
          <a:stretch/>
        </p:blipFill>
        <p:spPr>
          <a:xfrm>
            <a:off x="6705720" y="3200400"/>
            <a:ext cx="1566720" cy="1041480"/>
          </a:xfrm>
          <a:prstGeom prst="rect">
            <a:avLst/>
          </a:prstGeom>
          <a:ln w="0">
            <a:noFill/>
          </a:ln>
        </p:spPr>
      </p:pic>
      <p:pic>
        <p:nvPicPr>
          <p:cNvPr id="63" name="PRINT009" descr=""/>
          <p:cNvPicPr/>
          <p:nvPr/>
        </p:nvPicPr>
        <p:blipFill>
          <a:blip r:embed="rId3"/>
          <a:stretch/>
        </p:blipFill>
        <p:spPr>
          <a:xfrm>
            <a:off x="6858000" y="5181480"/>
            <a:ext cx="1644480" cy="125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ser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ruckverfahren entspricht dem Kopier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ine ganze Druckseite wird im Rechne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rzeugt und komplett ausgedru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845EA-FE46-421A-A001-339A090F7768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42960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41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n Neumann 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Röhl S. Holl-Bath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92AD1-90DD-474B-9D29-1474635192E6}" type="datetime1">
              <a:rPr lang="en-US"/>
              <a:t>07/31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8:43:06Z</dcterms:created>
  <dc:creator>Röhl</dc:creator>
  <dc:description/>
  <dc:language>en-US</dc:language>
  <cp:lastModifiedBy>Röhl</cp:lastModifiedBy>
  <cp:lastPrinted>1998-12-08T20:13:04Z</cp:lastPrinted>
  <dcterms:modified xsi:type="dcterms:W3CDTF">2001-09-06T09:15:02Z</dcterms:modified>
  <cp:revision>27</cp:revision>
  <dc:subject/>
  <dc:title>Kein Folientitel</dc:title>
</cp:coreProperties>
</file>